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440" y="4269600"/>
            <a:ext cx="80010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440" y="426960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85120" y="426960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440" y="426960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90840" y="426960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96240" y="426960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CST Gill San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11643"/>
              </a:solidFill>
              <a:latin typeface="CST Gill San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685440" y="426960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CST Gill San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85120" y="426960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440" y="4269600"/>
            <a:ext cx="80010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85440" y="4269600"/>
            <a:ext cx="80010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85440" y="426960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85120" y="426960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390840" y="198072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6240" y="198072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685440" y="426960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390840" y="426960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96240" y="4269600"/>
            <a:ext cx="257616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440" y="609480"/>
            <a:ext cx="80010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11643"/>
              </a:solidFill>
              <a:latin typeface="CST Gill San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440" y="426960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85120" y="426960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5120" y="1980720"/>
            <a:ext cx="39042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4269600"/>
            <a:ext cx="8001000" cy="20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solidFill>
            <a:srgbClr val="005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HCOSMTR" descr=""/>
          <p:cNvPicPr/>
          <p:nvPr/>
        </p:nvPicPr>
        <p:blipFill>
          <a:blip r:embed="rId2"/>
          <a:stretch/>
        </p:blipFill>
        <p:spPr>
          <a:xfrm>
            <a:off x="247680" y="127080"/>
            <a:ext cx="990720" cy="2030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440" y="6094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1643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8001000" cy="438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7840" indent="-177840">
              <a:buClr>
                <a:srgbClr val="011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1" marL="533520" indent="-177840"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2" marL="888840" indent="-177480">
              <a:buClr>
                <a:srgbClr val="011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3" marL="1244520" indent="-177840"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4" marL="1600200" indent="-177840">
              <a:buClr>
                <a:srgbClr val="011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5" marL="160020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6" marL="1600200" indent="-177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PHCOLRTR" descr=""/>
          <p:cNvPicPr/>
          <p:nvPr/>
        </p:nvPicPr>
        <p:blipFill>
          <a:blip r:embed="rId2"/>
          <a:stretch/>
        </p:blipFill>
        <p:spPr>
          <a:xfrm>
            <a:off x="800280" y="800280"/>
            <a:ext cx="4190760" cy="86040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6000"/>
            <a:ext cx="7543800" cy="18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ST Gill Sans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ST Gill San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7840" indent="-177840">
              <a:buClr>
                <a:srgbClr val="011643"/>
              </a:buClr>
              <a:buFont typeface="CST 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1643"/>
                </a:solidFill>
                <a:latin typeface="CST Gill Sans"/>
              </a:rPr>
              <a:t>Click to edit the outline text format</a:t>
            </a:r>
            <a:endParaRPr b="0" lang="en-US" sz="2800" spc="-1" strike="noStrike">
              <a:solidFill>
                <a:srgbClr val="011643"/>
              </a:solidFill>
              <a:latin typeface="CST Gill Sans"/>
            </a:endParaRPr>
          </a:p>
          <a:p>
            <a:pPr lvl="1" marL="457200" indent="-101520">
              <a:buClr>
                <a:srgbClr val="011643"/>
              </a:buClr>
              <a:buFont typeface="CST Gill San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CST Gill Sans"/>
              </a:rPr>
              <a:t>Second Outline Level</a:t>
            </a:r>
            <a:endParaRPr b="0" lang="en-US" sz="2400" spc="-1" strike="noStrike">
              <a:solidFill>
                <a:srgbClr val="011643"/>
              </a:solidFill>
              <a:latin typeface="CST Gill Sans"/>
            </a:endParaRPr>
          </a:p>
          <a:p>
            <a:pPr lvl="2" marL="914400" indent="-203040">
              <a:buClr>
                <a:srgbClr val="011643"/>
              </a:buClr>
              <a:buFont typeface="CST Gill San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CST Gill Sans"/>
              </a:rPr>
              <a:t>Third Outline Level</a:t>
            </a:r>
            <a:endParaRPr b="0" lang="en-US" sz="2000" spc="-1" strike="noStrike">
              <a:solidFill>
                <a:srgbClr val="011643"/>
              </a:solidFill>
              <a:latin typeface="CST Gill Sans"/>
            </a:endParaRPr>
          </a:p>
          <a:p>
            <a:pPr lvl="3" marL="1371600" indent="-304920">
              <a:buClr>
                <a:srgbClr val="011643"/>
              </a:buClr>
              <a:buFont typeface="CST Gill San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CST Gill Sans"/>
              </a:rPr>
              <a:t>Fourth Outline Level</a:t>
            </a:r>
            <a:endParaRPr b="0" lang="en-US" sz="2000" spc="-1" strike="noStrike">
              <a:solidFill>
                <a:srgbClr val="011643"/>
              </a:solidFill>
              <a:latin typeface="CST Gill Sans"/>
            </a:endParaRPr>
          </a:p>
          <a:p>
            <a:pPr lvl="4" marL="1828800" indent="-406440">
              <a:buClr>
                <a:srgbClr val="011643"/>
              </a:buClr>
              <a:buFont typeface="CST Gill Sans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CST Gill Sans"/>
              </a:rPr>
              <a:t>Fifth Outline Level</a:t>
            </a:r>
            <a:endParaRPr b="0" lang="en-US" sz="2000" spc="-1" strike="noStrike">
              <a:solidFill>
                <a:srgbClr val="011643"/>
              </a:solidFill>
              <a:latin typeface="CST Gill Sans"/>
            </a:endParaRPr>
          </a:p>
          <a:p>
            <a:pPr lvl="5" marL="1828800" indent="-406440">
              <a:spcBef>
                <a:spcPts val="499"/>
              </a:spcBef>
              <a:buClr>
                <a:srgbClr val="000000"/>
              </a:buClr>
              <a:buFont typeface="CST 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CST Gill Sans"/>
              </a:rPr>
              <a:t>Sixth Outline Level</a:t>
            </a:r>
            <a:endParaRPr b="0" lang="en-US" sz="2000" spc="-1" strike="noStrike">
              <a:solidFill>
                <a:srgbClr val="011643"/>
              </a:solidFill>
              <a:latin typeface="CST Gill Sans"/>
            </a:endParaRPr>
          </a:p>
          <a:p>
            <a:pPr lvl="6" marL="1828800" indent="-406440">
              <a:spcBef>
                <a:spcPts val="499"/>
              </a:spcBef>
              <a:buClr>
                <a:srgbClr val="000000"/>
              </a:buClr>
              <a:buFont typeface="CST Gill San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CST Gill Sans"/>
              </a:rPr>
              <a:t>Seventh Outline Level</a:t>
            </a:r>
            <a:endParaRPr b="0" lang="en-US" sz="2000" spc="-1" strike="noStrike">
              <a:solidFill>
                <a:srgbClr val="011643"/>
              </a:solidFill>
              <a:latin typeface="CST 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5a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00280" y="476244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ST Gill Sans"/>
              </a:rPr>
              <a:t>Ralph von Vignau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800280" y="507996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ST Gill Sans"/>
              </a:rPr>
              <a:t>LIPP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800280" y="539748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ST Gill Sans"/>
              </a:rPr>
              <a:t>Director Technology &amp; Standard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800280" y="5715000"/>
            <a:ext cx="75438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100" spc="-1" strike="noStrike">
                <a:solidFill>
                  <a:srgbClr val="ffffff"/>
                </a:solidFill>
                <a:latin typeface="CST Gill Sans"/>
              </a:rPr>
              <a:t>02-03-2006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9920" y="2895480"/>
            <a:ext cx="7543800" cy="186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CST Gill Sans"/>
              </a:rPr>
              <a:t>Trends in Transaction Level Modelling </a:t>
            </a:r>
            <a:br>
              <a:rPr sz="3600"/>
            </a:br>
            <a:r>
              <a:rPr b="0" lang="en-GB" sz="3600" spc="-1" strike="noStrike">
                <a:solidFill>
                  <a:srgbClr val="ffffff"/>
                </a:solidFill>
                <a:latin typeface="CST Gill Sans"/>
              </a:rPr>
              <a:t>DATE 2006</a:t>
            </a:r>
            <a:endParaRPr b="0" lang="en-US" sz="3600" spc="-1" strike="noStrike">
              <a:solidFill>
                <a:srgbClr val="ffffff"/>
              </a:solidFill>
              <a:latin typeface="CST Gill San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6730920" y="6578640"/>
            <a:ext cx="1841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8763120" y="6578640"/>
            <a:ext cx="190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1643"/>
                </a:solidFill>
                <a:latin typeface="CST Gill Sans"/>
              </a:rPr>
              <a:t>3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47680" y="6578640"/>
            <a:ext cx="444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1643"/>
                </a:solidFill>
                <a:latin typeface="CST Gill Sans"/>
              </a:rPr>
              <a:t>LIPP Ralph von Vignau 02-03-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1320" y="800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1643"/>
                </a:solidFill>
                <a:latin typeface="Arial"/>
              </a:rPr>
              <a:t>Why Transaction Level Modeling?</a:t>
            </a:r>
            <a:endParaRPr b="0" lang="en-US" sz="32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71320" y="1599840"/>
            <a:ext cx="80010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4040" indent="-284040">
              <a:lnSpc>
                <a:spcPct val="90000"/>
              </a:lnSpc>
              <a:buClr>
                <a:srgbClr val="011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Arial"/>
              </a:rPr>
              <a:t>A major factor in the development of SoC’s is the verification effort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4040">
              <a:lnSpc>
                <a:spcPct val="90000"/>
              </a:lnSpc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Arial"/>
              </a:rPr>
              <a:t>This takes up to 70% of the total effort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4040">
              <a:lnSpc>
                <a:spcPct val="90000"/>
              </a:lnSpc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Arial"/>
              </a:rPr>
              <a:t>Reduction of this effort could be strongly supported by the use of Transaction Level Modeling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4040">
              <a:lnSpc>
                <a:spcPct val="90000"/>
              </a:lnSpc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Arial"/>
              </a:rPr>
              <a:t>It is the goal 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reuse</a:t>
            </a:r>
            <a:r>
              <a:rPr b="0" lang="en-US" sz="2000" spc="-1" strike="noStrike">
                <a:solidFill>
                  <a:srgbClr val="011643"/>
                </a:solidFill>
                <a:latin typeface="Arial"/>
              </a:rPr>
              <a:t> TLM from the concept phase all the way through to the RTL and even to chip verification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buClr>
                <a:srgbClr val="011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Arial"/>
              </a:rPr>
              <a:t>Our activities in OSCI tend to have 2 focuses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4040">
              <a:lnSpc>
                <a:spcPct val="90000"/>
              </a:lnSpc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Arial"/>
              </a:rPr>
              <a:t>The interoperability of models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4040">
              <a:lnSpc>
                <a:spcPct val="90000"/>
              </a:lnSpc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Arial"/>
              </a:rPr>
              <a:t>And the utilization of TLM in verification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marL="284040" indent="-284040">
              <a:lnSpc>
                <a:spcPct val="90000"/>
              </a:lnSpc>
              <a:buClr>
                <a:srgbClr val="011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1643"/>
                </a:solidFill>
                <a:latin typeface="Arial"/>
              </a:rPr>
              <a:t>We see TLM having a major value in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4040">
              <a:lnSpc>
                <a:spcPct val="90000"/>
              </a:lnSpc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Arial"/>
              </a:rPr>
              <a:t>Validation of functional requirements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4040">
              <a:lnSpc>
                <a:spcPct val="90000"/>
              </a:lnSpc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1643"/>
                </a:solidFill>
                <a:latin typeface="Arial"/>
              </a:rPr>
              <a:t>Reuse of verification SW throughout the development cycle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0">
              <a:lnSpc>
                <a:spcPct val="9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730920" y="6578640"/>
            <a:ext cx="1841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763120" y="6578640"/>
            <a:ext cx="190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1643"/>
                </a:solidFill>
                <a:latin typeface="CST Gill Sans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47680" y="6578640"/>
            <a:ext cx="444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1643"/>
                </a:solidFill>
                <a:latin typeface="CST Gill Sans"/>
              </a:rPr>
              <a:t>LIPP Ralph von Vignau 02-03-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1320" y="800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1643"/>
                </a:solidFill>
                <a:latin typeface="Arial"/>
              </a:rPr>
              <a:t>What are the Major Issues</a:t>
            </a:r>
            <a:endParaRPr b="0" lang="en-US" sz="32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713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buClr>
                <a:srgbClr val="01164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1643"/>
                </a:solidFill>
                <a:latin typeface="Arial"/>
              </a:rPr>
              <a:t>Interoperability enables exchange &amp; ease of use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1643"/>
                </a:solidFill>
                <a:latin typeface="Arial"/>
              </a:rPr>
              <a:t>Languages enable different EDA tools to be used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1643"/>
                </a:solidFill>
                <a:latin typeface="Arial"/>
              </a:rPr>
              <a:t>Model types to represent various abstraction levels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1643"/>
                </a:solidFill>
                <a:latin typeface="Arial"/>
              </a:rPr>
              <a:t>API’s for communication channels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1164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1643"/>
                </a:solidFill>
                <a:latin typeface="Arial"/>
              </a:rPr>
              <a:t>Industry standards should be expressed and made available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marL="282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marL="282600" indent="-2826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However: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TLM has not yet been defined to the extent where interoperability is a fact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Verification at all levels of abstraction is still mainly in-house solutions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000c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cc"/>
                </a:solidFill>
                <a:latin typeface="Arial"/>
              </a:rPr>
              <a:t>There is still too much diversity in tooling causing interoperability issues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6730920" y="6578640"/>
            <a:ext cx="184176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8763120" y="6578640"/>
            <a:ext cx="19044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1643"/>
                </a:solidFill>
                <a:latin typeface="CST Gill Sans"/>
              </a:rPr>
              <a:t>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47680" y="6578640"/>
            <a:ext cx="444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11643"/>
                </a:solidFill>
                <a:latin typeface="CST Gill Sans"/>
              </a:rPr>
              <a:t>LIPP Ralph von Vignau 02-03-2006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1320" y="80028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11643"/>
                </a:solidFill>
                <a:latin typeface="Arial"/>
              </a:rPr>
              <a:t>Is SystemC a Worthwhile Investment?</a:t>
            </a:r>
            <a:endParaRPr b="0" lang="en-US" sz="3200" spc="-1" strike="noStrike">
              <a:solidFill>
                <a:srgbClr val="011643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71320" y="1752480"/>
            <a:ext cx="8001000" cy="464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2600" indent="-28260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ill too many companies trying to differentiate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 major value in TLM will be the availability of verification suites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use of these in any development environment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ability to mix various verification methods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ease of use up to automated test bench compilation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1" marL="758880" indent="-285840"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The levels of verification reached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2" marL="1127160" indent="-1778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Integration verification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2" marL="1127160" indent="-1778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ystem functionality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lvl="2" marL="1127160" indent="-177840"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erformance verification</a:t>
            </a:r>
            <a:endParaRPr b="0" lang="en-US" sz="2000" spc="-1" strike="noStrike">
              <a:solidFill>
                <a:srgbClr val="011643"/>
              </a:solidFill>
              <a:latin typeface="Arial"/>
            </a:endParaRPr>
          </a:p>
          <a:p>
            <a:pPr marL="282600"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  <a:p>
            <a:pPr marL="282600" indent="-282600"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0000"/>
                </a:solidFill>
                <a:latin typeface="Arial"/>
              </a:rPr>
              <a:t>There is still a long road before ROI can be achieved</a:t>
            </a:r>
            <a:endParaRPr b="0" lang="en-US" sz="2400" spc="-1" strike="noStrike">
              <a:solidFill>
                <a:srgbClr val="01164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2T16:26:55Z</dcterms:created>
  <dc:creator>von Vignau</dc:creator>
  <dc:description/>
  <dc:language>en-US</dc:language>
  <cp:lastModifiedBy>von Vignau</cp:lastModifiedBy>
  <dcterms:modified xsi:type="dcterms:W3CDTF">2006-03-06T05:41:56Z</dcterms:modified>
  <cp:revision>10</cp:revision>
  <dc:subject/>
  <dc:title>ECSI Panel DATE 2006</dc:title>
</cp:coreProperties>
</file>