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7102475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71028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5126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1"/>
          </p:nvPr>
        </p:nvSpPr>
        <p:spPr>
          <a:xfrm>
            <a:off x="4024440" y="0"/>
            <a:ext cx="3078000" cy="5126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lstStyle>
            <a:lvl1pPr indent="0" algn="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991800" y="766440"/>
            <a:ext cx="5118120" cy="3838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711360" y="4862160"/>
            <a:ext cx="5682960" cy="46054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2"/>
          </p:nvPr>
        </p:nvSpPr>
        <p:spPr>
          <a:xfrm>
            <a:off x="0" y="9720360"/>
            <a:ext cx="3078000" cy="5126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b">
            <a:noAutofit/>
          </a:bodyPr>
          <a:lstStyle>
            <a:lvl1pPr indent="0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r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3"/>
          </p:nvPr>
        </p:nvSpPr>
        <p:spPr>
          <a:xfrm>
            <a:off x="4024440" y="9720360"/>
            <a:ext cx="3078000" cy="51264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b">
            <a:noAutofit/>
          </a:bodyPr>
          <a:lstStyle>
            <a:lvl1pPr indent="0" algn="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  <a:defRPr b="0" lang="de-DE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61920"/>
                <a:tab algn="l" pos="1924200"/>
                <a:tab algn="l" pos="2886120"/>
                <a:tab algn="l" pos="3848040"/>
                <a:tab algn="l" pos="4809960"/>
                <a:tab algn="l" pos="5772240"/>
                <a:tab algn="l" pos="6734160"/>
                <a:tab algn="l" pos="7696080"/>
                <a:tab algn="l" pos="8658360"/>
                <a:tab algn="l" pos="9620280"/>
                <a:tab algn="l" pos="10582200"/>
              </a:tabLst>
            </a:pPr>
            <a:fld id="{7BE1EC99-9DAA-419D-8C95-CF1C6D57E717}" type="slidenum">
              <a:rPr b="0" lang="de-DE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68" name="PlaceHolder 2"/>
          <p:cNvSpPr>
            <a:spLocks noGrp="1"/>
          </p:cNvSpPr>
          <p:nvPr>
            <p:ph type="body"/>
          </p:nvPr>
        </p:nvSpPr>
        <p:spPr>
          <a:xfrm>
            <a:off x="711360" y="4862160"/>
            <a:ext cx="5682960" cy="46054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We didn‘t make our models OSCI TLM compliant upfront because lack of features when we built th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70" name="PlaceHolder 2"/>
          <p:cNvSpPr>
            <a:spLocks noGrp="1"/>
          </p:cNvSpPr>
          <p:nvPr>
            <p:ph type="body"/>
          </p:nvPr>
        </p:nvSpPr>
        <p:spPr>
          <a:xfrm>
            <a:off x="711360" y="4862160"/>
            <a:ext cx="5682960" cy="46054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usual solution for HW engineers -&gt; We see SystemC as system language but not as RTL and Design Langu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72" name="PlaceHolder 2"/>
          <p:cNvSpPr>
            <a:spLocks noGrp="1"/>
          </p:cNvSpPr>
          <p:nvPr>
            <p:ph type="body"/>
          </p:nvPr>
        </p:nvSpPr>
        <p:spPr>
          <a:xfrm>
            <a:off x="711360" y="4862160"/>
            <a:ext cx="5682960" cy="46054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000000"/>
                </a:solidFill>
                <a:latin typeface="Times New Roman"/>
              </a:rPr>
              <a:t>10x better 100x needed to make a business case !!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711360" y="4862160"/>
            <a:ext cx="5682960" cy="4605480"/>
          </a:xfrm>
          <a:prstGeom prst="rect">
            <a:avLst/>
          </a:prstGeom>
          <a:noFill/>
          <a:ln w="0">
            <a:noFill/>
          </a:ln>
        </p:spPr>
        <p:txBody>
          <a:bodyPr lIns="96120" rIns="9612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blic objects violate a basic principle of OO: Data Hi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CV does not run on actual SystemC standard, not OSCI TLM 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1332000" cy="6858000"/>
          </a:xfrm>
          <a:prstGeom prst="rect">
            <a:avLst/>
          </a:prstGeom>
          <a:solidFill>
            <a:srgbClr val="e6ecf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836640"/>
            <a:ext cx="7777080" cy="0"/>
          </a:xfrm>
          <a:prstGeom prst="line">
            <a:avLst/>
          </a:prstGeom>
          <a:ln w="22320">
            <a:solidFill>
              <a:srgbClr val="001e6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34920" y="5808600"/>
            <a:ext cx="11811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Wolfgang Ecker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Volkan Es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2006-03-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Page </a:t>
            </a:r>
            <a:fld id="{EE10474E-E79E-40A1-9DAF-888B067DBE29}" type="slidenum">
              <a:rPr b="0" lang="en-US" sz="12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116000" y="46080"/>
            <a:ext cx="79567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6480" rIns="96480" tIns="48240" bIns="48240" anchor="b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1280" y="85680"/>
            <a:ext cx="1187640" cy="53496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10160" y="5373720"/>
            <a:ext cx="4836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Volkan Esen, Wolfgang E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Infineon Technologies AG, Muni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7294680" y="5445000"/>
            <a:ext cx="1458720" cy="7207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1332000" y="765000"/>
            <a:ext cx="7812000" cy="14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920" y="1557000"/>
            <a:ext cx="7772400" cy="28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OSCI Lunch Panel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rends in Transaction Level Modeling for Architecture Analysis, Embedded Software Development, and Functional Verification</a:t>
            </a:r>
            <a:br>
              <a:rPr sz="28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32000" y="144000"/>
            <a:ext cx="7812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Infineon Statu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476000" y="981000"/>
            <a:ext cx="75596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t OSCI TLM compliant TL-Modeling successfully used at Infineon since year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chitecture Analy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Prototypes for early SW Develop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ference models for RTL Valid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inly own models used except fast processo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dels shall be made OSCI TLM complia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1476000" y="981000"/>
            <a:ext cx="75596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stemC is a class libr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 solution for concept engine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usual solution for HW engine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xed SystemC/HDL Models are not sufficiently sup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ors are behind in SystemC suppo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ors support SystemC/HDL interfaces differentl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LM does not guarantee interoper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lti-level design with SystemC / HDL needs a stand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1332000" y="144000"/>
            <a:ext cx="7812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General</a:t>
            </a: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1" lang="de-DE" sz="36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Abstrac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476000" y="981000"/>
            <a:ext cx="75596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SCI TLM SystemC is 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bit based SystemVerilog TLM model was factors faster than its SystemC uint based counterp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ystemC Versions require specific gcc versions and allow limited optimization on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aster SystemC kernel needed which is 10x – 100x faster than the OSCI kernel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title"/>
          </p:nvPr>
        </p:nvSpPr>
        <p:spPr>
          <a:xfrm>
            <a:off x="1332000" y="144000"/>
            <a:ext cx="7812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General Issues: Execution Spee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1476000" y="981000"/>
            <a:ext cx="75596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TL/TLM consistenc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ion is the only choice today, however cannot run all TLM scenarios on RTL without using an accelerator/proto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mal approach need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LM Verif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ed a more efficient method for probing the design without making all states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TL verification methodology requires re-adjustment for T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LM assertions slowly em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332000" y="115920"/>
            <a:ext cx="7812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Verification Trend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/>
          </p:nvPr>
        </p:nvSpPr>
        <p:spPr>
          <a:xfrm>
            <a:off x="1476000" y="981000"/>
            <a:ext cx="755964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Most issues found in SystemC applications tackled by OS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HDL/SystemC 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erification Libr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Cleanup for speed improve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rotocol standardiz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332000" y="115920"/>
            <a:ext cx="7812000" cy="69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3600" spc="-1" strike="noStrike">
                <a:solidFill>
                  <a:srgbClr val="000000"/>
                </a:solidFill>
                <a:latin typeface="Arial"/>
              </a:rPr>
              <a:t>Summary and Outli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140328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1332000" y="907920"/>
            <a:ext cx="770400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e: Wednesday, March 8, 2006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ime: 12:30 - 14:00 pm - Meeting (lunch provided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ocation: Room 13b, ICM, Munich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ends in Transaction Level Modeling for Architecture Analysis, Embedde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oftware Development, and Functional Verification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cription: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nelists from leading companies around the world will discuss thei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eriences developing and deploying SystemC transaction-level models,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 improvements that have resulted as well as difficulties they had to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vercome. This special forum will provide you with invaluabl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formation, insights, and real world solutions to reduce your risks a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rive ESL adoption success with SystemC and TLM.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ur panel of experts will explore the issues that initiated their mov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 TLM, their current approach, and the key factors driving design a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erification productivity. The discussion will highlight the importanc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standards for TLM model interoperability and reuse, the need for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rotocol and IP owners to provide users with TLM views in SystemC, and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pectations for interoperability between SystemC and non-SystemC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ls.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oderated by Wolfgang Nebel, OFFIS, Oldenburg University and ChipVisio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sign Systems 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anelists include Ralph von Vignau, Philips Semiconductor and Chairma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of SPIRIT, Frank Ghenassia, ST Microelectronics and OSCI TLM WG Chair</a:t>
            </a:r>
            <a:br>
              <a:rPr sz="1400"/>
            </a:b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genda Format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15 minutes Lunch Service and Welcome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15 minutes OSCI Update - Alain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45 minutes Panel (speakers prepare for 10 minutes each)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15 minutes Q&amp;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297080" y="0"/>
            <a:ext cx="78120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600" spc="-1" strike="noStrike">
                <a:solidFill>
                  <a:srgbClr val="000000"/>
                </a:solidFill>
                <a:latin typeface="Times New Roman"/>
              </a:rPr>
              <a:t>Backup: PANEL Descrip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6T10:58:49Z</dcterms:created>
  <dc:creator>Zambaldi_48803</dc:creator>
  <dc:description/>
  <dc:language>en-US</dc:language>
  <cp:lastModifiedBy>Volvo</cp:lastModifiedBy>
  <dcterms:modified xsi:type="dcterms:W3CDTF">2006-03-07T23:35:38Z</dcterms:modified>
  <cp:revision>63</cp:revision>
  <dc:subject/>
  <dc:title>Kein Folientitel</dc:title>
</cp:coreProperties>
</file>