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ECB1-5AA4-4ABC-B9AD-CCA08925D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CEC6-693A-4A14-A781-2CD31CBE3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D6FB-291B-4013-9C4A-E43D6B120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94EC-E054-4231-BE29-06CA1CA37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FB75-827B-4397-A83A-2DA2DA960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CDBAE-25B2-446B-9C44-FA2E3326D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02EE8-F8E2-429E-8551-19BF3A583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D4268-87A3-4731-9F11-70407802F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00DF4-6E5F-4C70-9D46-77914DCA9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0B4D-ABF4-4100-86E8-A306D5EFA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08DF3-F340-4F56-BE60-CEA296AA68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CDE1B-276A-4445-9C1F-066098FB2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7FFB7-7EEC-4AAE-BE68-6559C1F8F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0A13-6633-4A3D-A07C-CE3634313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AF54A-B74E-42ED-B639-2837FBF01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668A0-6185-462F-A9B9-8F6A03B0B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9ECD-A55D-44B1-B755-F5F023186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C1E5-6D2E-4424-9DA2-843D91769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Mutable Integer Parameter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. Swaminath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sic usage of a Mutable Integer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the parameter’s default value following 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o preset value is supplied in this exa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(directly) from within the owning 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from a different module, referred to as “EXTERN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quires obtaining a parameter handle from the bro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09760" y="213048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673200" y="1724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518120" cy="483840"/>
            <a:chOff x="3107880" y="3011400"/>
            <a:chExt cx="1518120" cy="483840"/>
          </a:xfrm>
        </p:grpSpPr>
        <p:sp>
          <p:nvSpPr>
            <p:cNvPr id="100" name="Rectangle 32"/>
            <p:cNvSpPr/>
            <p:nvPr/>
          </p:nvSpPr>
          <p:spPr>
            <a:xfrm>
              <a:off x="3129480" y="3011400"/>
              <a:ext cx="1496520" cy="4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484440"/>
              <a:ext cx="151848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65200" y="333684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674640" y="43797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1"/>
          <p:cNvSpPr/>
          <p:nvPr/>
        </p:nvSpPr>
        <p:spPr>
          <a:xfrm>
            <a:off x="3208320" y="1776240"/>
            <a:ext cx="2019240" cy="289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2"/>
          <p:cNvSpPr/>
          <p:nvPr/>
        </p:nvSpPr>
        <p:spPr>
          <a:xfrm>
            <a:off x="3219480" y="2689200"/>
            <a:ext cx="118116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 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lded Corner 43"/>
          <p:cNvSpPr/>
          <p:nvPr/>
        </p:nvSpPr>
        <p:spPr>
          <a:xfrm>
            <a:off x="4068720" y="4307040"/>
            <a:ext cx="3745080" cy="3222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_param_hand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set_cci_value (cci::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01_Simple_Int_Param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514520"/>
            <a:ext cx="868680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0 s, Ctor: Default value of sim_ip.int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Set value of int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Current value of int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Dtor: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 R. Swaminathan</dc:creator>
  <dc:description/>
  <cp:keywords/>
  <dc:language>en-US</dc:language>
  <cp:lastModifiedBy>Wieman, Trevor</cp:lastModifiedBy>
  <cp:lastPrinted>2017-01-29T14:24:54Z</cp:lastPrinted>
  <dcterms:modified xsi:type="dcterms:W3CDTF">2018-03-29T21:12:47Z</dcterms:modified>
  <cp:revision>142</cp:revision>
  <dc:subject/>
  <dc:title>Simple Mutable Integer Parame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8-03-29 21:12:47Z</vt:lpwstr>
  </property>
  <property fmtid="{D5CDD505-2E9C-101B-9397-08002B2CF9AE}" pid="5" name="TitusGUID">
    <vt:lpwstr>e3de821b-1c25-48f5-972a-c3014a611f88</vt:lpwstr>
  </property>
</Properties>
</file>