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89DCE-EFED-4CC0-A3BB-1431FDB6B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B1985-92E2-4619-8865-B4C5989202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75AE8-8346-4469-AD5C-F27A03AFF6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FABAD-B069-4575-957D-F26F265B50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B841B-F3A2-4D9A-963E-A08980565D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DB73B-1770-4A3D-8485-7F904B5AF6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2F916-2537-4C49-BB75-9AE2D1F6F6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3F67A-249E-4F8A-A71B-90D0506987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591BE-4A6C-4E46-AE76-03D0FF3A82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6C203-E36C-488E-B966-D23411F1A4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65E69-C99A-4C21-BABB-047FA09E26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54DDF-ED83-4448-B50A-2EA43D947A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59083-D9EE-4C86-A8E8-4159EA5D9C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7339A-8D48-4E68-B0AD-D1401101D5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16E52-9D07-4204-917B-342CB301DF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111DB-3736-4A04-AA61-C82AA131DB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F2F5A-E56A-4677-A2E1-DEFD4B23D5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411CE-5B55-4472-83DD-A19401C947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283F5-1D7E-4DB9-995C-EA135636A9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63E81-3692-43F0-A1D9-7BC1767F3D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21870-2320-4035-8E8F-3385115417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563CA-B984-4271-8DF4-3B9A1F9EAB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0E926-3460-4E41-9ECA-48A89DE982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4C3DC-B155-47CB-91BF-6F78CAC35B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C57C5-706F-4592-8AF2-4D8159C2C7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682D1-4AA4-4D56-BD8E-26CB374A7B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4CBFD-F3BC-4AC0-9D60-372FFFC53F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6225E-B7AC-4DC8-8A8B-25C2931B2D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0036A-E426-463C-9B40-E589E97471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7225A-B9BE-4B67-9AD8-93517998CE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8E218-B275-4CBD-A484-763A646BFA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A0A9-56BC-4ACE-B364-5C91BAF03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B9D6-0BA3-4743-BC50-95E8098ED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389A-3C45-4360-941C-522897DBB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62C9-FC7C-4535-82D5-343950BE1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0DEB-7CC9-49CD-8FC7-AFA563B23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9BE4C-8A41-4F53-979D-AC49B41ABF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D71C7-5B64-4812-9AA2-039B0E8FA8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16719-C850-4FB1-901B-D04C429CBC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875FE-7D53-4117-8AA8-EE1423630E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DA430-D98C-40E4-BB13-7A1415242F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AB87-3895-43D4-87E4-8C37472DA5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D6755-7002-4366-9CD4-AD1A8F3EAD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D8468-4DDE-4E74-B624-39DF734BEB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70AF-2939-41FF-8E8A-4CAE9438A1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1067D-0D2F-4C9A-A5C9-3CB8AB6AAE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BA22F-D7C0-4DD0-A23D-2AB71A5B4C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8A4C2-9D1F-43F3-B24B-F49028365D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1CA73-A3FD-4482-8C8F-61E7528E5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EC04-103B-41FC-88EA-82C3BA579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7F84-C2B5-4B65-89DC-907A6775C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01A0-E3C6-4CA9-9FAF-C84337F0E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EA9F9-A24A-4BFF-A8B9-B53183E74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78244-A441-47C0-8D51-342BB5BBB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AF62-648F-4120-8588-EBB55CF3F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E6C2D-7E52-4ADE-8758-157ABFC509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2342AE6B-BAF4-48F8-8C02-02E7BE5EE9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28240" y="12193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,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,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,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,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,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,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,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,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,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,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,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,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,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,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 CTPClassification=CTP_IC</cp:keywords>
  <dc:language>en-US</dc:language>
  <cp:lastModifiedBy>Wieman, Trevor</cp:lastModifiedBy>
  <cp:lastPrinted>2008-06-05T03:17:01Z</cp:lastPrinted>
  <dcterms:modified xsi:type="dcterms:W3CDTF">2018-03-29T22:43:37Z</dcterms:modified>
  <cp:revision>32</cp:revision>
  <dc:subject/>
  <dc:title>Indirectly Associating 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8-03-29 22:43:36Z</vt:lpwstr>
  </property>
  <property fmtid="{D5CDD505-2E9C-101B-9397-08002B2CF9AE}" pid="5" name="TitusGUID">
    <vt:lpwstr>2047365e-e2e2-4720-a50e-ebed3c959e5e</vt:lpwstr>
  </property>
</Properties>
</file>