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B04-BD39-48E2-8018-21674EAB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394-834B-47F9-A3F4-7AA82E62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AB28-A698-41FD-9749-D5ADC25A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C90E-7A7E-49CD-BA0C-C9A1E367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AD6D-423D-4514-9C5A-FCE34B06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A7B0-A5FC-44DD-A1DA-E5FF8A5F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E67-CED6-4509-96BC-1BB73744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B81D-C2E8-4907-B3B0-DA186B791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15B2-8A1C-400F-BFB9-CBCD446CB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D2E1-BF20-40EB-9233-45BB61D4D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3356-15D3-4332-A5FD-9D07FC73F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19E3-0786-49F8-ADC7-4E8839E84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A643-92A1-4654-A92F-F01F3F72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DF58-16DF-4B44-95AE-A56BBA9CF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153A-576E-4C2E-8CD3-90139577C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E27E-189C-4799-BF4A-7234857D4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5CD3-23E1-4E92-BF7A-E6333306F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65BE-B513-4CFB-BEDE-45154F437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F906-DB01-4662-84D2-3D3BE7D85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03E-3816-4F44-8DA2-AF90F99A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Sonal Poddar</dc:creator>
  <dc:description/>
  <cp:keywords>CTPClassification=CTP_IC</cp:keywords>
  <dc:language>en-US</dc:language>
  <cp:lastModifiedBy>Wieman, Trevor</cp:lastModifiedBy>
  <cp:lastPrinted>2008-06-04T21:47:01Z</cp:lastPrinted>
  <dcterms:modified xsi:type="dcterms:W3CDTF">2018-03-29T21:45:20Z</dcterms:modified>
  <cp:revision>186</cp:revision>
  <dc:subject/>
  <dc:title>Search Predic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45:19Z</vt:lpwstr>
  </property>
  <property fmtid="{D5CDD505-2E9C-101B-9397-08002B2CF9AE}" pid="5" name="TitusGUID">
    <vt:lpwstr>9e508fab-0d4d-42f6-bb4e-875dc6a2e392</vt:lpwstr>
  </property>
</Properties>
</file>