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4E6E6-0723-43F5-98A5-861F08D6C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205C5-727A-410C-924F-CBD103804F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5A4B4-4735-454F-B7B6-563A5A3B18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EA728-A4B1-4183-ABA1-6082B5E211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820EC-B6B2-4522-80B8-B7B7321A90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7AF38-D695-4A69-B5D3-0F6CAC2594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DA16F-98BC-4580-A096-A8C4182DA6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923EE-5947-48F6-B2FC-00CA3B9419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98347-7A20-43ED-966F-65582E962B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1C11E-61BF-4503-979B-D4BDF70705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0513A-DA02-4CDB-8CCD-88547F0BE2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03869-F79D-40F3-B90A-1916744A21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638DD-05E1-4451-9F04-86A558F362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861BA-4E1C-4C47-9C25-093EB7E13D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D1B9A-4737-44A7-B886-AA42DEE125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DAD32-EBAE-4F7D-A279-0194342A16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CBD53-584C-4FDF-BBCC-9A558901A9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079D8-768E-4569-A599-4DE6AD25A9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6D27C-0304-4059-BE8B-AE98E5C468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1C482-4B11-4212-92D7-51D7015E79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E2115-983B-469F-8420-E1AB5DC28E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AE2B3-B2D2-4CC1-A712-4A091A9300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1C2C6-A22F-4EDE-90D0-4E704920FA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87210-9646-4CCF-A662-D151A803E5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ED347-E2BE-4A97-A0C3-B5F3C625E6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6505-AAF8-4023-A1B7-6F2B0A6AA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E6D7-AC35-40BB-8D15-0A6B110F5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3FBF-D690-4BE3-8A71-10676E7CB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68C7-F8F3-416F-9F27-1F8CEEA85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B91A-53B0-451B-84E4-1CA463ADE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A046-A56A-4FB1-8A41-5C3A6D419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F6B3-9C05-48BC-801B-44C28AF04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7CFF-D1C8-4914-9611-01B277854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23EA-8621-42D6-A383-32C8047C2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E6FA-0FF3-4860-B677-3AA657EAB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DB3D-CA79-4019-BA98-E8944C594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C784-3095-47DB-AFDF-FFBFAF48A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CD079-7F27-46A8-986C-354FED1A612A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4546440" y="1425600"/>
            <a:ext cx="444528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value origin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value_origin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value origin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_origin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72EFD-DDA5-4D44-8B59-F768404A65DD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</cp:keywords>
  <dc:language>en-US</dc:language>
  <cp:lastModifiedBy>Wieman, Trevor</cp:lastModifiedBy>
  <cp:lastPrinted>2017-01-29T19:35:36Z</cp:lastPrinted>
  <dcterms:modified xsi:type="dcterms:W3CDTF">2018-05-04T20:16:40Z</dcterms:modified>
  <cp:revision>131</cp:revision>
  <dc:subject/>
  <dc:title>Parameter 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5-04 20:16:40Z</vt:lpwstr>
  </property>
  <property fmtid="{D5CDD505-2E9C-101B-9397-08002B2CF9AE}" pid="5" name="TitusGUID">
    <vt:lpwstr>9c3cd9ca-52ed-4274-8e98-0bc921084663</vt:lpwstr>
  </property>
</Properties>
</file>