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73AC-5317-4023-BF8C-251F546DD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58E64-84CD-4275-812C-0ACB05213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B8C2F-9AE2-4750-AE85-0A41A14EC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D54E5-5877-4CF8-A1B6-BECFA81D6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6F4A9-74C8-482E-8A47-9DCA42F2C7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EA99E-E046-4E97-AD14-A22310950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E1500-0F2D-42E8-8B0F-5ED3660CF5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3FF2A-2F2B-4E0E-B10C-669BBA784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6BF0F-7CCF-4C97-AF2E-9A5191F90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BF9A9-CC92-487A-8548-BC465BE5B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740EB-A7AD-48B2-9F90-01E0155761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E8082-7B52-4B85-AED2-EE93C7B3D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38AC5-0D51-47FD-8CA4-D690315EB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E4D2A-5FD7-4C80-A7B8-B87D94BF28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0712C-628F-448A-BA69-364A2DF727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A3B5F-4F5B-4AE4-802C-40264B4D55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6A3AE-59A3-4B8D-8959-317520B3CB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5296E-3195-49F6-8575-53923E1D5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2080-800B-4272-8DA2-C054EFA95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C0E8-DBF7-4B2F-B839-C31C832AA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AB10-23EA-498E-8AB9-3C018DFDC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DA40-AA73-41D4-8022-DCFBF2AB2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3D3B-DECE-4601-BF72-F8B2827FA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B7FA-5DCD-4505-871D-4615B2C4FB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4767-7F8B-4F53-915D-EDCFFC412B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F954-54B3-4CF8-8081-F91BFE825D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7273-59F4-4BF3-8310-C2DBC97C0B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D5B2-04BC-48DF-BA8C-2C6DF90FB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9050-369F-458C-9C11-DF2ABF5DB9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DED0-EA1B-4B53-8BDB-E875C5497C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63DB-0669-4314-BCC4-20890C320D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CF88-D6D5-406B-AF67-0A55DA9040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D518-C2EF-46E8-9747-E6AA4F5D53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CC76-BE94-4DB0-8A87-A8915B17E1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1DD6-5D65-4FF5-A03B-118798A6C1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F4A0-A546-4E77-870F-F0C6A5EA5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F0F0-3E00-45F7-9797-A1013CA4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B576-CAC1-4C1F-B041-0AA39D349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1C28-7C10-4090-894B-F7B621481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9CCB-C727-4C0D-86CD-3F5526CF3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17EA-BA28-4826-9BB0-BACD2DFC1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BA31-C9E7-42C2-B035-4505A90D0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B31A2-B1CD-4049-8CF6-4065D6844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6351FDA-58CA-4C6F-AE07-B8792CD560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reset Values Super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t Values Super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Preset_Values_Superset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</cp:keywords>
  <dc:language>en-US</dc:language>
  <cp:lastModifiedBy>Wieman, Trevor</cp:lastModifiedBy>
  <cp:lastPrinted>2008-06-05T03:17:01Z</cp:lastPrinted>
  <dcterms:modified xsi:type="dcterms:W3CDTF">2018-05-08T21:45:54Z</dcterms:modified>
  <cp:revision>23</cp:revision>
  <dc:subject/>
  <dc:title>Superset Parameter Value 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8 21:45:54Z</vt:lpwstr>
  </property>
  <property fmtid="{D5CDD505-2E9C-101B-9397-08002B2CF9AE}" pid="5" name="TitusGUID">
    <vt:lpwstr>407613b7-d1ea-43f3-af1c-aef363dad956</vt:lpwstr>
  </property>
</Properties>
</file>