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3D55-164F-4E73-A940-209B3CA5D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3C81-1A6B-4593-94BA-FE16D9E7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60D8-A38D-4E3A-97A3-7093137B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099-2097-4FD1-B79D-FE0DAB55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C56-B18C-4970-9245-16FFBE05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605D-53E5-47B9-8792-F18814C5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F49F-69FB-4D0D-BF94-D223266CC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CA7D-81AB-4FE1-9171-7DE279D8A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5AE4-F735-4A9F-8FC0-245F23ECF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1616-EF5A-46A9-9477-3639B62A4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22A6-ECF2-49DF-87B3-E9955D61E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74D6-A006-4246-AB8E-F79F07F94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35A2-306D-4AE7-B3A1-9FC275C85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9C95-CA37-46C3-9539-12BE837D5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106E-DBD6-4A7F-9439-6AAEF6872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6BFE-D91A-4DE7-8D40-24AD12996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201F-AD0F-4FC6-9576-4B1FF7EC6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9DE7-BF9A-4850-938E-2BCB80A53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2384-06E5-4A4A-9F99-EC442024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Info: sc_main: End Simulation</dc:creator>
  <dc:description/>
  <cp:keywords>CTPClassification=CTP_IC</cp:keywords>
  <dc:language>en-US</dc:language>
  <cp:lastModifiedBy>Wieman, Trevor</cp:lastModifiedBy>
  <cp:lastPrinted>2008-06-04T21:47:01Z</cp:lastPrinted>
  <dcterms:modified xsi:type="dcterms:W3CDTF">2018-03-29T21:25:44Z</dcterms:modified>
  <cp:revision>150</cp:revision>
  <dc:subject/>
  <dc:title>Parameter Value Change Callbak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25:43Z</vt:lpwstr>
  </property>
  <property fmtid="{D5CDD505-2E9C-101B-9397-08002B2CF9AE}" pid="5" name="TitusGUID">
    <vt:lpwstr>e91f1e81-ec8b-4b29-aa9d-61454af1454c</vt:lpwstr>
  </property>
</Properties>
</file>