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4807B-052F-4283-9D6B-6E6F832E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AF50-2007-47B8-96C7-A945F44DF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223D-5B96-4A67-9B36-4F753AB4B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A8944-6567-42F1-A1E2-975E32366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1A42C-972E-48C0-B835-5D1A70E6E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9E79D-09D5-4B34-8E00-CF06562F43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E8C58-6BC5-4C37-8B55-6DDBF780F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79FBA-C9CA-4D86-9150-7734A11F7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F583-EB88-4D1B-8316-331E99EE76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8253-0D70-4E46-B96D-12D06DDB4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AB17-148D-4170-89C4-321046C81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4FAF3-5C9C-4E86-AB60-DD84F950E6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936D-7871-4FD8-A8E0-24808FDDB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C63C5-3D51-4B8F-99D6-501945C8C7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BF2C-5D5D-4ADC-95E1-039A18742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A7D8-10C8-42EC-8BF2-E3929C178B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D43D1-1E65-454B-9D7A-0E7A056A07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4BE81-CD63-4547-B435-A371399D28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7F88E-2A5F-46FA-9462-971876FD4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C6FCE-A6FA-400B-9966-FC7C8929B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0DB03-FEEB-4908-93C8-5E60A2A7E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F476-11CD-4803-BE90-78FA41263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684F-234D-4FF1-9B99-498B82E8D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3F5C9-2230-4939-9805-FA7D3266EB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0B5C-DCF0-486D-9364-DBC370F9B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AF466-3C3D-4CB6-B417-8746F3AD62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033AA-6431-4887-9F48-C9712523C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B09FD-57B5-4230-908F-687D4976E8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CB35-4B1D-46A6-AFFA-16518B184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E26E-7F44-43AC-83CE-DA2A3928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510F-8F61-4FD5-AD6B-37841F599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8DFE-9744-453F-9006-2AA9574A8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27B0-6498-4B58-ACCC-669AA6C17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9DD-248B-46CE-B086-A35E73AF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A6C8-B887-45F3-95E7-811367224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00BF-6131-44A5-9A85-C76F912B0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BE7D-9C82-4FA8-AB8C-6D36C74D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E929-4FB4-41BB-A0EF-9CBE06289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8393-61E9-47FC-9D42-6E9E1E54C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24A4-4B12-4C1E-8FB1-30525E1F9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B26E7-5C7A-43C2-B9F4-897AEF3966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3-29T21:36:08Z</dcterms:modified>
  <cp:revision>37</cp:revision>
  <dc:subject/>
  <dc:title>Hiding 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36:07Z</vt:lpwstr>
  </property>
  <property fmtid="{D5CDD505-2E9C-101B-9397-08002B2CF9AE}" pid="5" name="TitusGUID">
    <vt:lpwstr>189efc54-5a38-4284-9103-2a19f32e059d</vt:lpwstr>
  </property>
</Properties>
</file>