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40112-DC8E-44F0-AD7A-0A2FDB99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03462-05E3-4A22-9D55-276791719C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27FF-5036-436D-B597-4CD9694680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77AB9-60E9-41E3-8583-0AA704FF3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DBC9E-C22A-434A-910A-87B2C0F2D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7FA1-568B-4B2C-A481-AFD0CE18A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F0642-9716-4D37-9590-A34645589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41A0-2E38-4CDD-89AA-DDC96DD83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1D03-7999-4D5B-B2FB-E0DEB0FA0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E5FC3-3A30-4D66-B6F2-251B614F7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B42ED-8CF3-4AE3-A1BA-952A127867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E587E-67B8-45EA-BFF2-31932FD01E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48AD5-FED0-4C1E-B20E-0CBDAA735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025A-FA68-4478-B4F9-401B54ACB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88D94-E60D-4AA7-8E02-0B35B0F5EE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6DE6-0DAD-4F5D-854E-28A221092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10C7F-D1A0-409D-9204-30FD118DB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B92DC-31DF-412A-AE13-113FC063C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6AE3-1581-4313-8700-8C55F14B6A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1D36C-8ED8-463D-A4C4-EE20015F8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05D00-35B3-42B6-9C5A-55A1A2CE5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018E-CEB0-45F5-9CD6-0F17C900D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ADC03-F892-4F4D-B54F-6CB5E5BE0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352A-43F6-457E-888A-5DC618DE66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495A5-D44C-4679-9F8F-25A74C906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8D77D-2509-41FB-9A49-44BCDE9D1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DD981-68F4-435A-A7B7-7F2CD580F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0223E-6CC4-48F9-B4BB-136E71768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1D334-9380-492C-ABC8-220F10241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C920-94EE-43E6-B1CB-E3C7F5A8FE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48E08-EE67-4777-9DB7-EC5E90A93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EF73-30BB-40B4-90C7-7EB06A766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0C3CC-4C47-404D-8012-B9AA00DAF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932A7-4F78-4987-AA19-0295B417F4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B7000-9FA3-4BEC-A719-042903F195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4D76D-50F4-451F-9DE3-DD44CDE6E6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DE91-D1E5-4460-B85E-ED12AED8F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B05C-6B8D-4C66-BB02-81E189856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65A2-238E-4103-A1AA-1DFB87451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A0B8-C361-4373-A04D-DC0073073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1BBC-A790-4A9D-9C1A-019E6AA55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E994-5683-4D81-A62F-2C3B5FD010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E891-47FD-4341-9BB0-42D38D6407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3C56-204D-41CA-8441-AD729C02A5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D223-8719-47F8-B63E-8A2D43EDE1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B8AD-FECF-4E91-80C6-DE0632E94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4E37-5A46-4D11-AD28-68B6D3DEB3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8247-D4A8-4392-8669-E51B798C00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623C-CCF5-41E8-B220-4DFB2049CC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FA32-7B89-4F14-8B30-724DE1787F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6FD9-4494-41B8-944B-68AED1DD5C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ADBF-D83D-45F6-A950-3B18249BDC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AF9C-EC6F-4A90-8D1D-FF6845EA02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E63D-F7A4-478B-AB6E-0E6A9D502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8C06-A2BA-4EB3-BC0C-64CD0B313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4574-860D-4821-9626-593AA6911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1BCB-EB8F-4144-950D-085185302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AB56-4E23-4DA2-A64C-69661694F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CDFA-080D-4B44-B156-982D092C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FBF1-3230-4AAF-895F-8425EB27D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B8469-C8E5-4F63-BB47-4E0037F97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64E8D-B887-4521-BD8F-5D66210048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</cp:keywords>
  <dc:language>en-US</dc:language>
  <cp:lastModifiedBy>Wieman, Trevor</cp:lastModifiedBy>
  <cp:lastPrinted>2017-02-11T15:16:23Z</cp:lastPrinted>
  <dcterms:modified xsi:type="dcterms:W3CDTF">2018-03-29T22:48:55Z</dcterms:modified>
  <cp:revision>18</cp:revision>
  <dc:subject/>
  <dc:title>Inter Parameter Value 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2:48:54Z</vt:lpwstr>
  </property>
  <property fmtid="{D5CDD505-2E9C-101B-9397-08002B2CF9AE}" pid="5" name="TitusGUID">
    <vt:lpwstr>a6488d3d-f883-4cf3-b3a0-b041f9371bfd</vt:lpwstr>
  </property>
</Properties>
</file>