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58070-E676-44C6-92BC-AC2E02583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8B392-42F7-4CB8-9274-6E27AEE927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E8873-80B1-4954-855C-04CDA9B99E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984F4-4010-480B-8324-616165D1FE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EAB06-53B2-41D7-AAC2-6804BC4F46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0D4F2-795B-45EB-85D3-B634F7FE2F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855B0-DE75-4FCA-81CE-70AEEB35CD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EC77B-DD08-4897-A79C-1FD30DC2E2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8E196-EECD-40DA-A12C-86C2C22426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445D0-7655-4196-ADBA-B89CF9C150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E8327-30AD-4715-B702-407575E690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56435-14F5-4390-8592-70D3773BC8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416CC-BE4F-4B27-BA39-B8BDA6841F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208E9-54DB-4108-95F2-DCE0DD7C0A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B43B-128C-43A3-895D-62B256B2E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9A97-2DA6-4FF7-98D7-F9C2879F1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AA33-5377-43AD-A3B5-09C0F0E17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BFE6-B3C5-4167-80D9-3311C7E73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0393-BD17-47B6-8A50-19D445CC2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400F2-8751-4441-8529-28CE56E5DD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25D53-EA27-44FB-8B90-6838918F33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11A27-B86F-4490-90BA-B28BDF4058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2DD82-5D77-4A48-8A7C-212D4C3F0B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6989-8B0A-426B-814D-6D8FD45446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FFE6-531F-49DC-B724-4DE4CD3EB8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05B83-5BDD-4DC3-A8AF-1F727320D8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4960-2E84-4D05-83F3-FC51EA61E5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79DE-E65C-4CC3-A0E3-D0A91C7AA3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F0D14-B67F-4FBF-8468-F45DBC1AF5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8B112-9901-457D-9189-094F4C36DB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488A-4D5B-4BDE-932B-724E87CA7E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2F2C-6DDB-4AA9-8537-35CF1444A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FAE7-2723-48B8-8945-A98DBD3D3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49E6-CAF2-4D44-A735-0ACBD383D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808D-3652-4652-8691-D94813A84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5294-EE56-43E3-8961-0D013E7E7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516E-2307-4196-9F5C-D58720421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EEFA-4E4E-4A6B-8D53-432B36ACF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FCF56-DE51-4E31-87A8-98E4A866FE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99677893-55FD-4954-B878-EA5A77DFB3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Lei Liang</dc:creator>
  <dc:description/>
  <cp:keywords>CTPClassification=CTP_IC</cp:keywords>
  <dc:language>en-US</dc:language>
  <cp:lastModifiedBy>Wieman, Trevor</cp:lastModifiedBy>
  <cp:lastPrinted>2008-06-05T03:17:01Z</cp:lastPrinted>
  <dcterms:modified xsi:type="dcterms:W3CDTF">2018-05-04T20:18:07Z</dcterms:modified>
  <cp:revision>87</cp:revision>
  <dc:subject/>
  <dc:title>Hierarchical Value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5-04 20:18:07Z</vt:lpwstr>
  </property>
  <property fmtid="{D5CDD505-2E9C-101B-9397-08002B2CF9AE}" pid="5" name="TitusGUID">
    <vt:lpwstr>522d689a-30a7-4b0c-9d2d-5977e3992383</vt:lpwstr>
  </property>
</Properties>
</file>