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47437-FAFF-4A39-B463-4577C3377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37520-E7E7-4DEC-8E57-FD8710500C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FD761-A362-4F5D-92DA-95C18A0A59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926DC-36F3-4556-88D2-AAC76DE0C5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34BDA-BAB7-4A6E-9294-D1292CDA7E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8D587-2634-44F0-AA51-D369EBA358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9FF84-7783-4EDE-BF83-0473AB1E57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8797A-E2BA-4246-863E-793840F60C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71138-1D65-4879-A76F-DDAD1D0A57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BD2C7-2D28-4110-82C1-94CAE9E42E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62E28-4CD4-4E47-BA72-EA7FA1592A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843E2-5ACA-4B4F-AF9A-5F459CE7E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27E76-2D97-4C19-A058-B5DFE0ABB9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A7691-1848-448D-BD00-FE2CED5C81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31339-5CCB-4B54-84EA-19599C7578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2ACF6-A646-450B-B46A-924A981E8A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98143-E1F8-45E4-A09F-0752154079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BFF75-13B7-4B75-8A72-7F4AB3AAC1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45CA8-8AD4-43ED-9C42-3D84639FEE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384A9-D5E2-4671-A958-0B2E4B364D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8732D-E998-4774-AB42-AC45830637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6EB24-C2B4-4764-A63F-BABE9A5B84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1484C-2FE7-4B8C-9369-DE6FC5E345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C73C8-08F4-4952-AC7E-8C55624886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CCD60-FC0D-419F-8FE7-E51942EA09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AF738-902E-4E88-817A-8032505EEF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935F2-694E-45B5-A8CE-41E83D83F2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6BFC1-28F7-4B94-9922-3666ACAAC2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EEB27-8B69-44E9-A996-00CF0F0972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58ED-5A74-4C96-A188-79E6A74B5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D651-3FA5-4C55-87CE-21323E0A0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AE51-2F09-43C0-BE35-248135E50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2D74-C69F-4888-AF91-E1D853001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107C-23C4-4D66-82E2-CC3962119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E472-EB3C-44B9-892C-3D05B6213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9EDA-9E95-459A-B3DF-619DC7D7D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5628-0891-4669-BCDA-C456A50D3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6575-F4BC-432B-94B9-BEC4AC303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31B0-2B9B-44F2-80E5-F81D606F4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41DE-AFBD-41DA-8064-629197EA1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92DC-DA1A-4D67-A7B3-960D0F954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5F5D1-E5C1-403A-9AAA-124ED7E632E8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B279D-B0D0-449A-BCE2-038F41F3BA0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83002-E206-4142-A46C-980CFB80A76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246F4-F5AE-43AF-A95B-75B762117F9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B7213-F844-4311-85B5-4C24869DC60D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5200D-43C0-4FB2-BC8B-1DE8227351A4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CFB17-40AF-4D63-AD13-86472C020C8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F132C-DD40-44C4-BBAB-A66FB706E02A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03642-C230-42C3-BCE5-08EB2FCA8A4A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055C4-35D0-4D99-B119-F66968B1C3FD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D419F-E562-40AF-B3AD-8558134A783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</cp:keywords>
  <dc:language>en-US</dc:language>
  <cp:lastModifiedBy>Wieman, Trevor</cp:lastModifiedBy>
  <cp:lastPrinted>2008-06-04T21:47:01Z</cp:lastPrinted>
  <dcterms:modified xsi:type="dcterms:W3CDTF">2018-05-04T20:13:06Z</dcterms:modified>
  <cp:revision>68</cp:revision>
  <dc:subject/>
  <dc:title>User Defined Data 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5-04 20:13:05Z</vt:lpwstr>
  </property>
  <property fmtid="{D5CDD505-2E9C-101B-9397-08002B2CF9AE}" pid="5" name="TitusGUID">
    <vt:lpwstr>fc8b835a-1d3c-4a78-8f66-3d525973a8b0</vt:lpwstr>
  </property>
</Properties>
</file>