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932DF0-5562-4EA0-A362-E02085677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16F88-8B4E-4200-8A77-9478DA0BF4A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EBB78-E081-44BD-897F-7404C19C26C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0AC1FB-7FF8-467C-B6BD-3FF5CFAA79C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C636B-D2CA-4698-90BC-5BA2581BC89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0DE88-AA5A-4A50-8DAB-821F5E61FC7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9A84C-7923-4675-9BB1-0BBE83E1E2E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BD9CD-53E6-4005-92CF-4D91AF39099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4B42FF-3C5F-47F7-AA02-AFEF1EEAFBB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CF019-EE12-44CD-A3F2-5808A0BD886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4CD0D-C636-42C2-B344-6541C107D6F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0557C4-283B-49AF-B8FB-68D60C73A55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2399F-F6F7-4BD3-965E-86AE8A64AC9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D5C43-0E93-4733-AABE-2EE7CCA52C8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D5B2A-F842-4FC4-B951-2302D7B0390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8E9C23-8305-4C0F-9D00-DF3147682B9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FCC46-3185-42F6-A2C2-544A923C664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9EDDC-D2F2-4090-B34D-DE880E84889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5E2051-5253-46CE-A572-67F2A632BEA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A9378-5596-4323-A703-D870EDA24C7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6B595-45FB-46C4-BEDD-8502B330AC2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30928-2A47-445C-9547-E100E023C38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F70A02-8C82-45ED-9259-29E062DE96E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78BD6-64B1-4C23-BA69-300FAF759D9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82BCE-58A4-4EFF-A6CE-714220C26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E9C5E6C-F453-4CDC-9723-B86E747376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9459181D-955A-4506-9D4A-69334A274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54619FBD-EBC1-49CF-A8E5-C2CDD180A7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0EB5F1E-F2F7-4ABA-BC50-F30BB946F6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C2577E-2A87-4191-A05E-59C2499E16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568A0FD-E38B-49EE-9CD0-FC9550B329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3760015-A764-4F8E-9CEE-D6CF3C04A8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6786CEF1-15F7-4CF4-93EA-5E88BC712B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598E4AF7-659D-412A-B9E3-AF33BA2B49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A19E1B-2DAF-4B95-ADD5-F9172E1323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9CFE722-A6DE-45EA-A0CB-D5EAC98385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7760B39-366C-4976-B5DF-E768710D80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2C7AF91-0DC3-4F18-9C1E-394C705BCC4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E3B8F2A-F70F-43B3-B836-36BFE7B8A8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DAAB3115-FC39-426A-B22B-8399505783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838E5310-C58D-4FA5-8A11-9B343F43FC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68D5C41D-2ED4-4DDA-B287-E0D18DFF06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9AAB8F9-0FF5-4F66-B351-C18E747088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98BEC599-A006-4AA6-9B67-C9D8C9D379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8CC890-113C-4271-8C9A-BBE00DFD86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D084C08-FCB2-4726-9092-7E9C903586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C85E610-4A63-4E81-9310-5F259F1DFB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FD541DA-482A-485D-8117-313C6B3FA2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E9DED-782E-485E-92D4-186532178F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4D76237-A38D-46EA-B4C9-50CA82D932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6576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sc_main: Begin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sc_main: End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cp:keywords>
  <dc:language>en-US</dc:language>
  <cp:lastModifiedBy>Wieman, Trevor</cp:lastModifiedBy>
  <cp:lastPrinted>2017-02-05T20:04:16Z</cp:lastPrinted>
  <dcterms:modified xsi:type="dcterms:W3CDTF">2018-03-29T21:29:42Z</dcterms:modified>
  <cp:revision>15</cp:revision>
  <dc:subject/>
  <dc:title>Shared 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8-03-29 21:29:42Z</vt:lpwstr>
  </property>
  <property fmtid="{D5CDD505-2E9C-101B-9397-08002B2CF9AE}" pid="5" name="TitusGUID">
    <vt:lpwstr>d85ea855-1e73-4b19-b74a-c6f31e4325b8</vt:lpwstr>
  </property>
</Properties>
</file>