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79B6E-A442-4831-BA7F-BBF30EE6C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D28B-42B4-40FB-B3FA-8CDD14009C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F229A-FE61-4A97-B67E-E2F0B91311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CE66-4A96-4C0E-AC04-2492748F1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DFE80-F857-4061-8C23-A62AAD7B84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AE95-1EBE-4997-AD6C-D9652BA9C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1FCF2-EEC0-45E4-87A1-EB734CB91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B85B2-D4F9-4726-B937-CA54F5DBF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4B2BD-FC73-4A12-BE70-DBF7FD544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B0D34-DB4E-40D0-B6B6-6187492C4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F5E8D-82E8-487A-ABD6-AB14E07D7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48F8-4D43-415B-81D9-0ED4BAA1F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7D058-A8C8-44EB-86DD-9230AA48E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3B22-8687-4E1C-8B9F-A1A9B0C80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5DD6-4458-42D4-B9CB-4B1BB1344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B419-3058-4F52-90C6-9EA512DC8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84B9-F559-4DF7-8400-84BAAF2C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EA6B-AAAA-4658-9C3D-1D19AFBF3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9922-E897-4BDA-8AEB-ADBF72B19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1C7F-87D1-4803-82BB-8A914DFC3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A9E5-B0DE-424C-B932-867C816E8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DF65-1C21-4B9D-964D-71C51FA85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4E73-1E2A-4FC3-A845-EF441ABCB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6FBE-7227-4C99-A5AE-05BD4CE4C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86B9-2FBD-4CD9-BA63-3F2A45D81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17A6B-9C23-4ADA-B19F-D9B986F4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 Vishal Goel</dc:creator>
  <dc:description/>
  <cp:keywords/>
  <dc:language>en-US</dc:language>
  <cp:lastModifiedBy>Wieman, Trevor</cp:lastModifiedBy>
  <cp:lastPrinted>2017-01-29T17:21:23Z</cp:lastPrinted>
  <dcterms:modified xsi:type="dcterms:W3CDTF">2018-03-29T21:20:28Z</dcterms:modified>
  <cp:revision>159</cp:revision>
  <dc:subject/>
  <dc:title>Default vs. Preset 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20:27Z</vt:lpwstr>
  </property>
  <property fmtid="{D5CDD505-2E9C-101B-9397-08002B2CF9AE}" pid="5" name="TitusGUID">
    <vt:lpwstr>76883866-3039-4c24-b240-4506b7a28644</vt:lpwstr>
  </property>
</Properties>
</file>