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5DDBB-D946-4C15-8FA1-4B83F6B97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8AEE0-840F-49FF-A5CB-5D1EC37D52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75723-D2F2-4F17-BAFB-207C549343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4027C-C749-43BC-9F48-32A654B27E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983DD-4108-4A2F-9C11-C70B3FB1B5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45C72-1032-47AB-A863-0636B3065E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B5F2A-A275-4BE3-837D-69C8253396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5ADB1-5848-48BF-AAE8-B4CCFAFCD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DFBDB-9F20-45EA-B857-4B8A66AFDA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BFFEF-9B30-41CD-A1DB-F8E5DB29F4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5A830-EFA9-4C40-B468-619682E118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8C707-ADA4-4911-8CD3-4DFE13185D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0F15A-C367-4516-B2EF-638E3FAD95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1A565-1CBC-447C-BCF6-BC032DD67C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A213A-584F-43A4-A3D7-2C02DE9203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47602-B75F-41AD-8634-31A82417F5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CA732-1C3C-4D1A-8786-C17B1024C6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18747-CF37-4CFD-8AB4-4C15238EA4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6173F-D95B-44EF-B424-AE5F8D046F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742F7-B706-41B2-BF03-94004CD471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3526D-E4E9-44EB-814E-82A1BE2EBB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43007-51C7-4EDE-8502-3BB11B8BA7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EB35-7F09-48B1-BD4C-29C7747B8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5AA6-460B-412A-B9B9-FD23E8C44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5A30-EC6C-49B8-B883-E7F5B7F27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E223-9C9E-4328-807D-510CF0E57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D7D5-D143-40A6-A7C2-3A0A38234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402C-67E4-464D-BE9F-10012F7048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58C1-474A-418D-94D4-474CE9C198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C8A7-B2D9-4F0D-9F28-0DF6A99534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37AB-355E-4C35-B825-38FDA19D9F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F603-D9F2-451F-B699-FD2758FB1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AE51-166F-4D47-996E-52A5180F5A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7CFE-881D-4C76-951B-438B52FFB0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1947-9523-4B08-974D-8F7753ED18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9DDB-C492-46EC-9FCA-D81EA97D5B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3DE2-3B23-4892-AE30-04FE59A66B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1FD2-8686-40DB-BC12-68A0BF30E6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2640-4714-4818-8BD2-CFB66BE81D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F424-5E8C-4D33-B81C-B0D5FEBC5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06B0-7466-47AF-A5E7-BAE697065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0F52-CDE3-42C0-8B0D-F11C7CF54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D95D-300A-4621-849A-60F25EFFC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67FB-5B46-44F2-8A1C-C1F04A75D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4F91-09BD-447C-AD33-0D296AE0C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DF7E-EC1E-48EA-812B-899B3A91F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872FF-84E3-43BB-AF79-AA8C3B0F93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6A5A735-92B4-497E-8153-4E422CF56A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t Values from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set Values from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s are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Preset_Values_from_Config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</cp:keywords>
  <dc:language>en-US</dc:language>
  <cp:lastModifiedBy>Wieman, Trevor</cp:lastModifiedBy>
  <cp:lastPrinted>2008-06-05T03:17:01Z</cp:lastPrinted>
  <dcterms:modified xsi:type="dcterms:W3CDTF">2018-05-08T21:43:44Z</dcterms:modified>
  <cp:revision>20</cp:revision>
  <dc:subject/>
  <dc:title>Specifying Parameter Values via a Configuration 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5-08 21:43:43Z</vt:lpwstr>
  </property>
  <property fmtid="{D5CDD505-2E9C-101B-9397-08002B2CF9AE}" pid="5" name="TitusGUID">
    <vt:lpwstr>c44708f1-27b7-4d9f-94bd-f7e37ebb71cf</vt:lpwstr>
  </property>
</Properties>
</file>