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E88A-A5C5-45DF-B642-E210DEBBC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132D-6F09-40D3-A48C-A097708AE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8AA8-677A-4740-9480-8D93A529C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4786-292F-4C88-A695-4CE2F557F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21CA-9DAA-4C8F-97FA-8E57514C1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975C-B236-4304-B494-C384C8C1D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AC817-FC7F-46EF-B923-6E9797AA0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EB44-1EC0-4962-9FD3-F40F6AC9B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A63A-EE21-4E62-94B8-F9B1AAEDE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D0B4-4154-4877-865C-035DF28DD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360F-14FF-48DE-9D5A-9BC9F82C9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75E1-2367-4849-8CF3-04502EFEC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136F-2A3A-4BE8-A9C3-574188DF7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2EB1-EC1E-42DA-85DC-443EF224E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1F31-1A30-40EA-B6A2-7F8DED2EF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8705-F902-4B8D-94F8-F9FECB171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4777-CC59-4AB1-9379-19E632409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8CDE-29A9-4706-AC08-3B4FE46F4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74D3-67E3-4128-B10A-5AADA29E7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Sonal Poddar</dc:creator>
  <dc:description/>
  <cp:keywords>CTPClassification=CTP_IC</cp:keywords>
  <dc:language>en-US</dc:language>
  <cp:lastModifiedBy>Wieman, Trevor</cp:lastModifiedBy>
  <cp:lastPrinted>2008-06-04T21:47:01Z</cp:lastPrinted>
  <dcterms:modified xsi:type="dcterms:W3CDTF">2018-03-29T21:44:41Z</dcterms:modified>
  <cp:revision>172</cp:revision>
  <dc:subject/>
  <dc:title>Parameter Destruction Resurr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3-29 21:44:41Z</vt:lpwstr>
  </property>
  <property fmtid="{D5CDD505-2E9C-101B-9397-08002B2CF9AE}" pid="5" name="TitusGUID">
    <vt:lpwstr>ea6cc5ed-1c1b-4aa0-91f1-9c2633a3b32b</vt:lpwstr>
  </property>
</Properties>
</file>