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24C8-2991-4877-9EBB-316606F14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384A2-6981-462B-A471-8CDE76CBC3C3}"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CED6-7502-4CF6-BD63-DBD45E242AE1}"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469EE-9FCF-438D-85DB-0FACC07E0C09}"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CE08-2991-4FF6-A651-AD1EA17416F2}"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5F51-89B7-47F6-8C92-103576BCAEE4}"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14BF-8D04-4952-BA0B-7F115502AC91}"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2007F-29E9-44F7-8A36-A50F0105FCEC}"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1CCA9D-73CB-4BB8-9692-CF7BCC6C3F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F58DA6BF-2A44-471D-86F3-4BA808D7F6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8ABB9746-694D-4E87-893C-522DB5602E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19BFBF4F-C584-461E-85B1-FF46E043F7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100D7D3-83A8-4FAB-BECD-D9411C7E7C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2BB961E-1928-40AE-BCD9-1485051DBE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5CBE0852-E12C-4624-9469-E5B1EE2AD7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3A98BF90-ACDC-403B-B8C1-AC41D5BA95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914E163-927C-42E4-8647-ECF3D9F86B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9F113E59-0FBF-4068-B1EC-471956C823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B464EF0D-6E84-4085-B8F1-0FA2B07288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2DAB556-5702-4017-93DD-C8E41702E3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58D16-8A37-404C-9D43-562FB7C9853A}"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 Asiful Haque Mondal</dc:creator>
  <dc:description/>
  <cp:keywords/>
  <dc:language>en-US</dc:language>
  <cp:lastModifiedBy>Wieman, Trevor</cp:lastModifiedBy>
  <cp:lastPrinted>2017-01-29T16:57:19Z</cp:lastPrinted>
  <dcterms:modified xsi:type="dcterms:W3CDTF">2018-03-29T21:21:06Z</dcterms:modified>
  <cp:revision>206</cp:revision>
  <dc:subject/>
  <dc:title>Parameter Naming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8-03-29 21:21:06Z</vt:lpwstr>
  </property>
  <property fmtid="{D5CDD505-2E9C-101B-9397-08002B2CF9AE}" pid="5" name="TitusGUID">
    <vt:lpwstr>9f9fe614-12e3-468e-844d-31a586ac192b</vt:lpwstr>
  </property>
</Properties>
</file>