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A19E-26D1-44B3-9A4A-7365FD61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576D-7752-4203-A919-6FF4FF3C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09C0-4548-4AED-80EA-46E686DB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5374-3C4D-4CC3-A79F-98ADAE7BC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823A-F14A-445C-BEEC-CE4BE59F6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B6A0-8DD5-445D-AACC-4AB25D58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D7A7-1471-41CA-810A-27B37B1AE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1BC7-7511-4A3A-BA13-C318AFD38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722C-9274-43FC-8880-3FE17E526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EAD3-0055-47A9-BC2D-222EDBC67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4D62-5AD5-4C04-89FF-4CA8680A1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FB13-49BD-49FB-A3D6-424991394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E33C-8BD5-4D59-89CC-B0B710141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6DD1-7C5D-461D-BB51-B06703BBB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0800-8980-4B4B-AF25-976DBF7D7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A46-8114-4D32-BDC2-7A7F3F64C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1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1.0.0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ep environment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The specified path should contain the top-level boost/ director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1.0.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examples/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if “path too long” errors are encounter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1.0.0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’d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-1.0.0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Lei Liang</dc:creator>
  <dc:description/>
  <cp:keywords>CTPClassification=CTP_IC</cp:keywords>
  <dc:language>en-US</dc:language>
  <cp:lastModifiedBy>Wieman, Trevor</cp:lastModifiedBy>
  <cp:lastPrinted>2017-01-29T14:24:54Z</cp:lastPrinted>
  <dcterms:modified xsi:type="dcterms:W3CDTF">2018-06-14T00:35:52Z</dcterms:modified>
  <cp:revision>166</cp:revision>
  <dc:subject/>
  <dc:title>Compile &amp; Run CCI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8-06-14 00:35:51Z</vt:lpwstr>
  </property>
  <property fmtid="{D5CDD505-2E9C-101B-9397-08002B2CF9AE}" pid="5" name="TitusGUID">
    <vt:lpwstr>e3de821b-1c25-48f5-972a-c3014a611f88</vt:lpwstr>
  </property>
</Properties>
</file>