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51EEE-6348-4315-A1C1-2CE83B49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2BA8B-9ED8-421F-A40D-472BE07248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B4776-EF6F-4B75-8E5F-BCE0927271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C8957-6B5D-4D71-880E-57C2ABC9B8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6D61C-B07B-46F4-91C1-A9C0AD79E1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6B58B-2554-4C2A-A577-9CB8E89FC4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2B924-89C0-4789-86E7-98D07B1B58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EBD92-55CE-4991-AF9C-2B55206B90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E43C8-137F-474C-A5D8-D88929EE79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67C1C-4D5D-4A6B-AAEE-664474DDB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733D2-D6D1-44EC-BADD-D5B7B53D3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23D98-3D68-4067-A00A-2681DE46EF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8B93D-58BC-482F-A939-863F1527C9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54E0A-60B0-4890-8509-99A96A1E57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C1A19-C792-48AE-90BE-D970EB9380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DE105-6A97-452A-84E0-BF10085EB7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C8493-816F-44C9-A387-CE1103F02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68518-A266-4352-95A1-1CB7B53B27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53541-4232-4A48-B1AB-ED7E169534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FA66B-E62D-4D0A-953C-F382ADFDFC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BB2B0-17CF-4AEB-9D7A-AB901571B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BFE9F-4428-4B52-995B-BF922519A9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FB52C-173A-4202-B0C5-834549BC7B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511B-53A0-4866-8E93-0B448D4B5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F72F-44CC-4C5A-939B-5239F4266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0DF6-D475-45EB-B084-B990FC540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901E-2E72-4B2D-A2B8-8FA107C58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86FC-5FD2-4B48-8DA2-6882FD3F8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94EF-A84A-48E5-8FD8-EA121A8AD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5E09-17A2-4CEA-A93B-3600D4A5F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67F9-BF26-4473-AA35-4B14DF929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B583-7668-4679-816A-DAD334D40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E569-A493-4CD3-BB1A-CC173B458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C6BE-B301-48DD-9B7A-6982AABEB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1912-C8D8-48DF-B5FA-862EA09D6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EB6D2-FA5B-4571-BE1B-5B5439F7CD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</cp:keywords>
  <dc:language>en-US</dc:language>
  <cp:lastModifiedBy>Wieman, Trevor</cp:lastModifiedBy>
  <cp:lastPrinted>2008-06-05T03:17:01Z</cp:lastPrinted>
  <dcterms:modified xsi:type="dcterms:W3CDTF">2018-03-29T21:34:09Z</dcterms:modified>
  <cp:revision>27</cp:revision>
  <dc:subject/>
  <dc:title>Parameter Value 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34:08Z</vt:lpwstr>
  </property>
  <property fmtid="{D5CDD505-2E9C-101B-9397-08002B2CF9AE}" pid="5" name="TitusGUID">
    <vt:lpwstr>f341ef4f-c913-43a5-ba57-f9d7ac14d2c0</vt:lpwstr>
  </property>
</Properties>
</file>