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324-D490-4975-AB11-FED1B207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5A03-855C-4983-8223-714F96472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7694-796D-46D9-A28B-E73FE42C1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0BB-503B-45B0-BFD1-6B552D50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8822-4E93-4EC1-874F-A6D0C1F0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5740-D53C-4FBB-B40B-394F65D7F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236D-F30D-46E2-B304-FA51168E6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0264-740F-419D-8E9E-048946C0A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C850-CB04-4A90-9328-0813CDBF3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0E55-088E-497C-ABF2-3FD987500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1C1E-CFBC-4F28-BE93-28776293A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1DA2-EADE-4247-86E8-5E3F802A8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8762-4B11-4A59-9AD7-BD952D1CE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2F2C-2E13-404C-ABF3-746E84CC9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71D6-DB0D-4583-AD70-18FBA7532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3DC7-0992-42D1-BBB3-3E04F7108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790A-B80F-493A-8182-C60019F29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A47-3D1A-4CD1-88E0-F261F80CB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 Udaya Ranga L.V.</dc:creator>
  <dc:description/>
  <cp:keywords/>
  <dc:language>en-US</dc:language>
  <cp:lastModifiedBy>Wieman, Trevor</cp:lastModifiedBy>
  <cp:lastPrinted>2017-01-29T14:32:41Z</cp:lastPrinted>
  <dcterms:modified xsi:type="dcterms:W3CDTF">2018-03-29T21:16:47Z</dcterms:modified>
  <cp:revision>174</cp:revision>
  <dc:subject/>
  <dc:title>Elaboration Time Parameter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16:46Z</vt:lpwstr>
  </property>
  <property fmtid="{D5CDD505-2E9C-101B-9397-08002B2CF9AE}" pid="5" name="TitusGUID">
    <vt:lpwstr>547c93aa-b014-4213-b6ae-5ea969590b9c</vt:lpwstr>
  </property>
</Properties>
</file>