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B77E-7F96-4DA2-B6FD-1D2314943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98308-2140-4953-882D-733ACC5257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BF406-1B69-4EE1-8692-76FEE94FD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CB6EE-BFDB-4E00-946C-EDD3730AE7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24E3-6433-4DD8-9FCA-A8964139B6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41C2D-5A85-4CEF-8D23-12D2F597D7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09C55-FA76-4730-9B9E-CDA314B794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1516-7CBB-4D30-93FE-BC0961F2FC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FC8ED-F17F-47FA-A18F-96728F07C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C6342-EE05-400B-B6EC-D1C8FE209C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3E3BC-85CE-40D0-A389-C27E4422B5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24085-A683-4E5D-A930-0B1DCBC461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DD7A1-D0E5-4BE8-BB9E-CF2A52022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A9017-9308-4F41-AA64-F956DFA5C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D9EB3-5BE6-4D39-843E-6AAC43D5D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96C33-E0A4-4E84-BCC4-A76F71EA1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62A50-A50F-4D32-9335-A191BFDD1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1885E-616B-4E62-9E12-82F2263121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85492-36E7-477F-BFEC-C616587FF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4EE42-37A4-45F1-809C-0DD2316912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5436B-1A88-49CA-A93D-B8DFA18204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DD94-BDDF-4E93-9C5C-2FBA102A22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F2BAA-8264-47D5-A63A-87B3B5BEC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A49DF-5271-4A97-AEFB-40F389681D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2C23F-019D-44F6-B475-0801DECB0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B3802-AF6E-48A4-90DD-91928AD442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377C9-C82D-460E-A0BC-5C625568A1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A01B4-A493-40B7-919D-1129AFDBF5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E6363-4D4C-45F8-BE6F-AFFEE01C5A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5CF56-9CC2-4058-A0DD-4D109814D5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57819-9B97-4ACE-ABDD-6F2DE6613A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9A617-A762-403C-AAB4-5F8222686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E29E4-0245-4E95-B3DC-7BF3D9091D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00318-8823-40D1-8678-427CEAC7BF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FDE73-DACA-410A-8F18-9FCB0A268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BAFD-5173-4CF6-A502-4C2C18E20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79CC-030F-4BA5-BAFD-1C96B2FF1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80E0-74B5-4F10-9A1A-D3AF31902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F39D-9101-4D4F-A239-2D700C6C6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EC03-F194-4D15-8917-BD94F9289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BA15-9FC1-4CF8-AED6-B96EDB4358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D7DB-B97C-42B3-BC99-56F306623F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AC4D-1E7D-4070-A660-4FF4927289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1943-6667-4F3D-86C1-6F7A469C43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0673-002A-464B-86F5-0F6B40DB1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9299-E9DD-4CD9-AEE5-C221898DC0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094F-5771-438D-93D5-6BB22A9E31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AC10-6B52-4F85-9552-86FFD5BB4B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99A7-85B7-4C3E-8C3A-FEBD74BE02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9BF0-492A-43AF-8945-AE9A978882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271A-036D-4999-8DAA-3520250E44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43A7-C581-4B0C-858D-E83889AAE2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FCC4-FD8A-46F6-A13A-62392DD20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20CE-C0D8-4488-96A0-2305A1636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528F-698B-4556-922C-49F63E3BD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4C28-6100-463C-A665-7116CF503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6E54-F471-4BEE-9371-A0E53A016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878F-F4CC-4AB0-B1A2-EA2E66794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3D54-06B5-41EA-B0E1-BA8A795E8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BF40E-C153-4930-922A-5CD05BD46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E80638B-CC62-4515-992A-2A143ED2F1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</cp:keywords>
  <dc:language>en-US</dc:language>
  <cp:lastModifiedBy>Wieman, Trevor</cp:lastModifiedBy>
  <cp:lastPrinted>2008-06-05T03:17:01Z</cp:lastPrinted>
  <dcterms:modified xsi:type="dcterms:W3CDTF">2018-05-04T20:17:33Z</dcterms:modified>
  <cp:revision>84</cp:revision>
  <dc:subject/>
  <dc:title>Tracing Parameter 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4 20:17:32Z</vt:lpwstr>
  </property>
  <property fmtid="{D5CDD505-2E9C-101B-9397-08002B2CF9AE}" pid="5" name="TitusGUID">
    <vt:lpwstr>c510a3f5-05aa-41bf-bec3-42483cac079d</vt:lpwstr>
  </property>
</Properties>
</file>