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3CA9-8ABE-4BD3-B01F-6FE3CDF98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AB92-1C1F-47C6-964C-561B254FA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B541-3A5E-40A1-AC31-3B056D4D0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2173-DA80-4807-A37A-189A8EFDD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986D-2BBA-490F-A275-3E6D70018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2FD6-7F21-4181-9921-A38400E70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85673-BE3F-4FD3-9007-B11D50FDD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27DB8-865A-48CD-A8F4-8328A281F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833AB-3BD4-4B3E-8987-347960F322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5E30B-3674-4542-AF60-85868DF3FF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F5601-7443-4B30-86BB-D04F1C3458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710C9-BBC8-4FB1-AC14-C24C062D0E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FCE01-4733-4EBB-AE34-472EEC806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E3B49-910A-46C0-87E9-10A0D494D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568B1-4C71-40D9-8FC1-0273BBF3A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85A09-79AF-4816-8CC5-6B0A290C2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9235F-78B3-4EB4-AC5C-A20B85F85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620F-3FDA-42B7-B394-C70FF19EB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F709-EC03-4E3E-A801-CD42DD8FA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ing CCI Parameters of Fully Supported Data Type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 Nizamudhe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Overvie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lare, initialize and report the value of a parameter of each fully supported data ty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, unsigned ch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 unsigned int, short int, int64_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 dou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(successful and unsuccessful) conversion of an untyped handle to a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untyped handle to int-param and try to cast it to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igned int-para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84360" y="1185840"/>
            <a:ext cx="1989000" cy="420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850000" y="116352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1672560" y="1606680"/>
            <a:ext cx="5400" cy="41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825600" y="159228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41"/>
          <p:cNvSpPr/>
          <p:nvPr/>
        </p:nvSpPr>
        <p:spPr>
          <a:xfrm>
            <a:off x="1751040" y="1724040"/>
            <a:ext cx="2374920" cy="576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// params w/other types follow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429000" y="1166760"/>
            <a:ext cx="207792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CI-Infrastructu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7"/>
          <p:cNvCxnSpPr>
            <a:stCxn id="97" idx="2"/>
          </p:cNvCxnSpPr>
          <p:nvPr/>
        </p:nvCxnSpPr>
        <p:spPr>
          <a:xfrm flipH="1">
            <a:off x="4453920" y="1595160"/>
            <a:ext cx="14760" cy="42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99" name="Group 34"/>
          <p:cNvGrpSpPr/>
          <p:nvPr/>
        </p:nvGrpSpPr>
        <p:grpSpPr>
          <a:xfrm>
            <a:off x="6060600" y="3168720"/>
            <a:ext cx="786240" cy="307800"/>
            <a:chOff x="6060600" y="3168720"/>
            <a:chExt cx="786240" cy="307800"/>
          </a:xfrm>
        </p:grpSpPr>
        <p:sp>
          <p:nvSpPr>
            <p:cNvPr id="100" name="Rectangle 31"/>
            <p:cNvSpPr/>
            <p:nvPr/>
          </p:nvSpPr>
          <p:spPr>
            <a:xfrm>
              <a:off x="6060960" y="3168720"/>
              <a:ext cx="779040" cy="30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3"/>
            <p:cNvCxnSpPr/>
            <p:nvPr/>
          </p:nvCxnSpPr>
          <p:spPr>
            <a:xfrm>
              <a:off x="6060600" y="3466080"/>
              <a:ext cx="7866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41"/>
          <p:cNvSpPr/>
          <p:nvPr/>
        </p:nvSpPr>
        <p:spPr>
          <a:xfrm>
            <a:off x="5006880" y="1916280"/>
            <a:ext cx="3413160" cy="384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handle int_param_handle = m_broker.get_param_handle(param_nam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3" name="Straight Arrow Connector 37"/>
          <p:cNvCxnSpPr/>
          <p:nvPr/>
        </p:nvCxnSpPr>
        <p:spPr>
          <a:xfrm flipH="1" flipV="1">
            <a:off x="4465440" y="2435040"/>
            <a:ext cx="23817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Folded Corner 41"/>
          <p:cNvSpPr/>
          <p:nvPr/>
        </p:nvSpPr>
        <p:spPr>
          <a:xfrm>
            <a:off x="5006880" y="2657520"/>
            <a:ext cx="3738600" cy="439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int&gt; int_param_typed_handle = cci::cci_param_typed_handle&lt;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" name="Group 39"/>
          <p:cNvGrpSpPr/>
          <p:nvPr/>
        </p:nvGrpSpPr>
        <p:grpSpPr>
          <a:xfrm>
            <a:off x="6039000" y="4033800"/>
            <a:ext cx="801720" cy="308160"/>
            <a:chOff x="6039000" y="4033800"/>
            <a:chExt cx="801720" cy="308160"/>
          </a:xfrm>
        </p:grpSpPr>
        <p:sp>
          <p:nvSpPr>
            <p:cNvPr id="106" name="Rectangle 40"/>
            <p:cNvSpPr/>
            <p:nvPr/>
          </p:nvSpPr>
          <p:spPr>
            <a:xfrm>
              <a:off x="6039000" y="4033800"/>
              <a:ext cx="794520" cy="30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7" name="Straight Arrow Connector 41"/>
            <p:cNvCxnSpPr/>
            <p:nvPr/>
          </p:nvCxnSpPr>
          <p:spPr>
            <a:xfrm>
              <a:off x="6039000" y="4331520"/>
              <a:ext cx="80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8" name="Folded Corner 41"/>
          <p:cNvSpPr/>
          <p:nvPr/>
        </p:nvSpPr>
        <p:spPr>
          <a:xfrm>
            <a:off x="4510080" y="3557520"/>
            <a:ext cx="44704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unsigned int&gt; uint_param_typed_handle =cci::cci_param_typed_handle&lt;unsigned 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43"/>
          <p:cNvGrpSpPr/>
          <p:nvPr/>
        </p:nvGrpSpPr>
        <p:grpSpPr>
          <a:xfrm>
            <a:off x="6018120" y="4883040"/>
            <a:ext cx="811800" cy="309600"/>
            <a:chOff x="6018120" y="4883040"/>
            <a:chExt cx="811800" cy="309600"/>
          </a:xfrm>
        </p:grpSpPr>
        <p:sp>
          <p:nvSpPr>
            <p:cNvPr id="110" name="Rectangle 44"/>
            <p:cNvSpPr/>
            <p:nvPr/>
          </p:nvSpPr>
          <p:spPr>
            <a:xfrm>
              <a:off x="6018120" y="4883040"/>
              <a:ext cx="804240" cy="30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1" name="Straight Arrow Connector 45"/>
            <p:cNvCxnSpPr/>
            <p:nvPr/>
          </p:nvCxnSpPr>
          <p:spPr>
            <a:xfrm>
              <a:off x="6018120" y="5182200"/>
              <a:ext cx="812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2" name="Folded Corner 41"/>
          <p:cNvSpPr/>
          <p:nvPr/>
        </p:nvSpPr>
        <p:spPr>
          <a:xfrm>
            <a:off x="4525920" y="4432320"/>
            <a:ext cx="43750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std::string&gt; string_param_typed_handle = cci::cci_param_typed_handle&lt;std::string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23"/>
          <p:cNvSpPr/>
          <p:nvPr/>
        </p:nvSpPr>
        <p:spPr>
          <a:xfrm>
            <a:off x="2895480" y="2395440"/>
            <a:ext cx="1121040" cy="478080"/>
          </a:xfrm>
          <a:prstGeom prst="wedgeRoundRectCallout">
            <a:avLst>
              <a:gd name="adj1" fmla="val 137750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24"/>
          <p:cNvSpPr/>
          <p:nvPr/>
        </p:nvSpPr>
        <p:spPr>
          <a:xfrm>
            <a:off x="2406600" y="3274920"/>
            <a:ext cx="1219320" cy="479520"/>
          </a:xfrm>
          <a:prstGeom prst="wedgeRoundRectCallout">
            <a:avLst>
              <a:gd name="adj1" fmla="val 123236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Un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ex02_Fully_Supported_Data_Type_Param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147168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16_param is 0x123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64_param is 0x97654321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 of sim_ip.int_param is an integer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cast of sim_ip.int_param to cci::cci_param_typed_handle&lt;int&gt; succeed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Curren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80880" y="114300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unsigned int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std::string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End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 A. Nizamudheen</dc:creator>
  <dc:description/>
  <cp:keywords>CTPClassification=CTP_IC</cp:keywords>
  <dc:language>en-US</dc:language>
  <cp:lastModifiedBy>Wieman, Trevor</cp:lastModifiedBy>
  <cp:lastPrinted>2008-06-04T21:47:01Z</cp:lastPrinted>
  <dcterms:modified xsi:type="dcterms:W3CDTF">2018-03-29T21:15:33Z</dcterms:modified>
  <cp:revision>157</cp:revision>
  <dc:subject/>
  <dc:title>Fully Supported Data Type Pa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8-03-29 21:15:32Z</vt:lpwstr>
  </property>
  <property fmtid="{D5CDD505-2E9C-101B-9397-08002B2CF9AE}" pid="5" name="TitusGUID">
    <vt:lpwstr>bfbb1515-2861-4493-b3f1-199c522b8794</vt:lpwstr>
  </property>
</Properties>
</file>