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C68F-8A09-4C2B-A3F4-617CBAD5F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5CB3-A7B7-4371-96AA-7CE98E38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164E-792C-4BE2-B32A-447D578DE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1954-D8D3-496B-B6BA-98FD21E33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8E4D-56BC-4FC4-8B1C-81597B79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DF2-1184-461B-A9BE-2707C968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B2F4-A3D8-4859-ABD3-A2A336CED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E1C5-4D9D-48ED-9925-104D7B696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CEAE-6F88-4FA0-A048-EEBAF1506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D0A3-C483-4C85-9F4C-7F6ACD49A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FC2C-B8D4-4A17-A473-690BBDB21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98D8-4EB3-4FAE-ABC9-1B9EBC8C2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AA9E-52EC-404E-B7F3-460B4D6D3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0FB4-1F0C-4FEC-A402-68440D2E5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3496-A3A9-4840-B0AE-D44D8DB0C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B7FA-0D73-44B4-8925-426CC1282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DBCC-693D-4134-9E61-74CD57D2E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4063-8485-474F-8209-E76503DFE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EE40-C989-439F-AC89-3D7D6D2A9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/>
  <dc:language>en-US</dc:language>
  <cp:lastModifiedBy>Wieman, Trevor</cp:lastModifiedBy>
  <cp:lastPrinted>2008-06-04T21:47:01Z</cp:lastPrinted>
  <dcterms:modified xsi:type="dcterms:W3CDTF">2018-03-29T21:19:23Z</dcterms:modified>
  <cp:revision>213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19:22Z</vt:lpwstr>
  </property>
  <property fmtid="{D5CDD505-2E9C-101B-9397-08002B2CF9AE}" pid="5" name="TitusGUID">
    <vt:lpwstr>f1c79e0e-b5e2-49e9-9085-1b84db7193b4</vt:lpwstr>
  </property>
</Properties>
</file>