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2D6-5DA9-4564-A6A7-7472AC64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DB6-46F0-4504-B663-E48868F0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EF82-15A1-4954-8268-7FA8B32B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576-DC91-4488-8D6A-47DE0610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272A-D755-497B-AE60-20762664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FB14-E3D9-4747-B555-5BCA1EF5C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1BB-599F-4D5B-ADB8-1C766523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121-22F9-48BC-944F-9777FC96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66F7-84A6-4F45-AA5B-A73E6FEDA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A414-0FB6-4D8D-8CE5-386D925E4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A40-C2FF-4FFB-9BE8-08A63421B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7DFA-1D31-4C1F-B919-AB72A1232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F182-BE57-4E06-910B-B11C6A30B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2E3F-6006-4436-BD5F-179530EC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8AE0-0528-42A6-ABBB-4A04EFD90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898D-73B5-4892-86EF-8E6017A90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88E7-4630-4D9A-A631-F391F8AC4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934D-385D-4983-A78D-90F01B6A1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FFC5-56EC-4831-8A17-D3F678B46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9837-87F2-4A90-A7B0-1038463D4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3A7C-BA3F-4DE4-BE05-D601DD715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x24_Reset_Param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vor Wie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 Cor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ch 20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Rese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xample shows the effects of reset, specific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of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of value ori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of parameter write callb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a “parameter tracker” uses parameter callbacks to report this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s in behavior are shown for the following  parameter types and configu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ble and immu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Mutable parameters can be re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preset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7760" y="1143000"/>
            <a:ext cx="116208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12600" y="1512360"/>
            <a:ext cx="16560" cy="451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27"/>
          <p:cNvSpPr/>
          <p:nvPr/>
        </p:nvSpPr>
        <p:spPr>
          <a:xfrm>
            <a:off x="385200" y="14940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elab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37"/>
          <p:cNvSpPr/>
          <p:nvPr/>
        </p:nvSpPr>
        <p:spPr>
          <a:xfrm>
            <a:off x="401400" y="35751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Folded Corner 41"/>
          <p:cNvSpPr/>
          <p:nvPr/>
        </p:nvSpPr>
        <p:spPr>
          <a:xfrm>
            <a:off x="520560" y="1903320"/>
            <a:ext cx="4380120" cy="1013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itialize integer parameter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A("paramA", 1, "mutable pa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pres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")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aramB("paramB", 2, "mutable pa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res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"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aramC("paramC", 3, "mutab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am"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aramD("paramD", 4, 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am"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230880" y="1155600"/>
            <a:ext cx="114624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6781320" y="1525320"/>
            <a:ext cx="23040" cy="45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2127240" y="3094200"/>
            <a:ext cx="1203480" cy="33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C.lock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Folded Corner 41"/>
          <p:cNvSpPr/>
          <p:nvPr/>
        </p:nvSpPr>
        <p:spPr>
          <a:xfrm>
            <a:off x="5105520" y="1905120"/>
            <a:ext cx="3541680" cy="504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"sim_ip.paramB"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5180040" y="3975120"/>
            <a:ext cx="3390840" cy="1025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pdating mutable parameters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get_param_handle("sim_ip.paramA"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(cci::cci_value(100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get_param_handle("sim_ip.paramB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.set_cci_value(cci::cci_value(200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45120" y="5046840"/>
            <a:ext cx="3462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</a:rPr>
              <a:t>paramA value origin updated to config_ip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171360" indent="-171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</a:rPr>
              <a:t>paramB value origin was already config_ip via the preset value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- continu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147760" y="1143000"/>
            <a:ext cx="116208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5" name="Straight Arrow Connector 16"/>
          <p:cNvCxnSpPr>
            <a:stCxn id="104" idx="2"/>
          </p:cNvCxnSpPr>
          <p:nvPr/>
        </p:nvCxnSpPr>
        <p:spPr>
          <a:xfrm flipH="1">
            <a:off x="2712600" y="1512360"/>
            <a:ext cx="16560" cy="451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27"/>
          <p:cNvSpPr/>
          <p:nvPr/>
        </p:nvSpPr>
        <p:spPr>
          <a:xfrm>
            <a:off x="384840" y="149400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4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TextBox 37"/>
          <p:cNvSpPr/>
          <p:nvPr/>
        </p:nvSpPr>
        <p:spPr>
          <a:xfrm>
            <a:off x="380880" y="32288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1"/>
          <p:cNvSpPr/>
          <p:nvPr/>
        </p:nvSpPr>
        <p:spPr>
          <a:xfrm>
            <a:off x="919080" y="1895400"/>
            <a:ext cx="3618000" cy="10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tting parameters (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time)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A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B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C.reset(); // no effect since paramC is lock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D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230880" y="1155600"/>
            <a:ext cx="114624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0" name="Straight Arrow Connector 17"/>
          <p:cNvCxnSpPr>
            <a:stCxn id="109" idx="2"/>
          </p:cNvCxnSpPr>
          <p:nvPr/>
        </p:nvCxnSpPr>
        <p:spPr>
          <a:xfrm flipH="1">
            <a:off x="6781320" y="1525320"/>
            <a:ext cx="23040" cy="45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Folded Corner 41"/>
          <p:cNvSpPr/>
          <p:nvPr/>
        </p:nvSpPr>
        <p:spPr>
          <a:xfrm>
            <a:off x="5032440" y="3629160"/>
            <a:ext cx="3541680" cy="1773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pdating preset values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"sim_ip.paramA"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"sim_ip.paramA"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“20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"sim_ip.paramA"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“30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"sim_ip.paramA"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“40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- continu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147760" y="1143000"/>
            <a:ext cx="116208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13" idx="2"/>
          </p:cNvCxnSpPr>
          <p:nvPr/>
        </p:nvCxnSpPr>
        <p:spPr>
          <a:xfrm flipH="1">
            <a:off x="2712600" y="1512360"/>
            <a:ext cx="16560" cy="451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384840" y="149400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4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37"/>
          <p:cNvSpPr/>
          <p:nvPr/>
        </p:nvSpPr>
        <p:spPr>
          <a:xfrm>
            <a:off x="384840" y="36021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Folded Corner 41"/>
          <p:cNvSpPr/>
          <p:nvPr/>
        </p:nvSpPr>
        <p:spPr>
          <a:xfrm>
            <a:off x="919080" y="1895400"/>
            <a:ext cx="3618000" cy="10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tting parameters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A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B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C.reset(); // no effect since paramC is lock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D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6230880" y="1155600"/>
            <a:ext cx="1146240" cy="368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7"/>
          <p:cNvCxnSpPr>
            <a:stCxn id="118" idx="2"/>
          </p:cNvCxnSpPr>
          <p:nvPr/>
        </p:nvCxnSpPr>
        <p:spPr>
          <a:xfrm flipH="1">
            <a:off x="6781320" y="1525320"/>
            <a:ext cx="23040" cy="45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10"/>
          <p:cNvSpPr/>
          <p:nvPr/>
        </p:nvSpPr>
        <p:spPr>
          <a:xfrm>
            <a:off x="912960" y="2995560"/>
            <a:ext cx="36176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</a:rPr>
              <a:t>paramA and paramD value origins updated to config_ip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Folded Corner 41"/>
          <p:cNvSpPr/>
          <p:nvPr/>
        </p:nvSpPr>
        <p:spPr>
          <a:xfrm>
            <a:off x="919080" y="4002120"/>
            <a:ext cx="3618000" cy="855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locking and resetting paramB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aramC.unlock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aramC.reset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aramC.lock(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919080" y="4900680"/>
            <a:ext cx="361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</a:rPr>
              <a:t>paramC value origin updated to config_ip where its preset value came from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24_Reset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ting up sim_ip.paramB's preset value to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Parameter construction comple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0 s] Tracking sim_ip.param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handle originator: sc_m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scription: mutable param without preset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; is defaul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0 s] Tracking sim_ip.param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handle originator: sc_m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scription: mutable param with preset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0 s] Tracking sim_ip.param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handle originator: sc_m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scription: mutable locked 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3; locked; is defaul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- continu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0 s] Tracking sim_ip.param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handle originator: sc_m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scription: immutable 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4; is defaul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Info: sc_main: Begin Simulation.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</a:t>
            </a:r>
            <a:r>
              <a:rPr b="1" lang="en-US" sz="1200" spc="-1" strike="noStrike">
                <a:solidFill>
                  <a:srgbClr val="000099"/>
                </a:solidFill>
                <a:latin typeface="Consolas"/>
              </a:rPr>
              <a:t>Updating mutable paramet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10 ns] sim_ip.paramA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10 ns] sim_ip.paramB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value: 200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20 ns, </a:t>
            </a:r>
            <a:r>
              <a:rPr b="1" lang="en-US" sz="1200" spc="-1" strike="noStrike">
                <a:solidFill>
                  <a:srgbClr val="000099"/>
                </a:solidFill>
                <a:latin typeface="Consolas"/>
              </a:rPr>
              <a:t>Resetting paramet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20 ns] sim_ip.paramA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; is defaul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- continu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853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20 ns] sim_ip.paramB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20 ns] sim_ip.paramD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value: 4; is defaul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Info: cfg_ip: @30 ns,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Consolas"/>
              </a:rPr>
              <a:t>Updating preset values.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40 ns, </a:t>
            </a:r>
            <a:r>
              <a:rPr b="1" lang="en-US" sz="1200" spc="-1" strike="noStrike">
                <a:solidFill>
                  <a:srgbClr val="000099"/>
                </a:solidFill>
                <a:latin typeface="Consolas"/>
              </a:rPr>
              <a:t>Resetting paramet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40 ns] sim_ip.paramA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100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40 ns] sim_ip.paramB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200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40 ns] sim_ip.paramD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400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value origin: cfg_ip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nsolas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50 ns, </a:t>
            </a:r>
            <a:r>
              <a:rPr b="1" lang="en-US" sz="1200" spc="-1" strike="noStrike">
                <a:solidFill>
                  <a:srgbClr val="000099"/>
                </a:solidFill>
                <a:latin typeface="Consolas"/>
              </a:rPr>
              <a:t>Unlocking and resetting param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[PTRK @ 50 ns] sim_ip.paramC value updat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: 3000; is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value origin: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Info: sc_main: End Simulation.</dc:creator>
  <dc:description/>
  <cp:keywords>CTPClassification=CTP_NT</cp:keywords>
  <dc:language>en-US</dc:language>
  <cp:lastModifiedBy>Wieman, Trevor</cp:lastModifiedBy>
  <cp:lastPrinted>2008-06-04T21:47:01Z</cp:lastPrinted>
  <dcterms:modified xsi:type="dcterms:W3CDTF">2018-03-29T21:42:11Z</dcterms:modified>
  <cp:revision>188</cp:revision>
  <dc:subject/>
  <dc:title>Reset Pa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NT</vt:lpwstr>
  </property>
  <property fmtid="{D5CDD505-2E9C-101B-9397-08002B2CF9AE}" pid="3" name="CTP_BU">
    <vt:lpwstr>NA</vt:lpwstr>
  </property>
  <property fmtid="{D5CDD505-2E9C-101B-9397-08002B2CF9AE}" pid="4" name="CTP_IDSID">
    <vt:lpwstr>NA</vt:lpwstr>
  </property>
  <property fmtid="{D5CDD505-2E9C-101B-9397-08002B2CF9AE}" pid="5" name="CTP_TimeStamp">
    <vt:lpwstr>2018-03-29 21:42:11Z</vt:lpwstr>
  </property>
  <property fmtid="{D5CDD505-2E9C-101B-9397-08002B2CF9AE}" pid="6" name="CTP_WWID">
    <vt:lpwstr>NA</vt:lpwstr>
  </property>
  <property fmtid="{D5CDD505-2E9C-101B-9397-08002B2CF9AE}" pid="7" name="TitusGUID">
    <vt:lpwstr>278cb784-514e-49a9-8dbd-e15b2bce0a22</vt:lpwstr>
  </property>
</Properties>
</file>