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3649A-1307-4E97-9F72-82017E73F4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CB701-B41F-4150-A939-93652FFB5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194C5-E7CA-49B4-9ABE-94A954EA4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C36C7-BDBA-49FB-82A1-2C366D50E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9F3B5-CB4A-4A3A-A225-3361067B7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B0FDE-9451-4844-83E6-102A82B56D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BC9A8-9699-489E-813D-C75A3940CA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1E5F7-96C5-4375-A29A-1C4DF3C6C1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CD65B-C9A7-42BF-B898-0D783093B4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E9DD3-C857-4660-97C1-531734246D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9E2EC-8636-48CB-A090-DE4A93E635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4AEF5-A392-4454-BE71-F608B43D23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5CF77-ECB6-493B-B427-2D47E50C3A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C60CA-AFD0-4F88-A63B-9D3FC68FE6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20A96-F57D-4D12-83FE-20D3D3E869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E9601-41C5-43A5-BC0D-E872F0C89A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91D46-3FF5-40DE-84C2-5FBFB8D244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EEF51-712A-41F2-81C6-F575E903C0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47:01Z</cp:lastPrinted>
  <dcterms:modified xsi:type="dcterms:W3CDTF">2008-06-05T12:39:23Z</dcterms:modified>
  <cp:revision>85</cp:revision>
  <dc:subject/>
  <dc:title>AT Basic System Example</dc:title>
</cp:coreProperties>
</file>