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E119E-05D9-466B-8D37-F9A7CDC716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9A90C-68D6-4ABC-9CE7-4673238A9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D123D-E7A2-404A-B262-53B6DF4BD8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09F8C-F40A-4A2C-8466-063A37F444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FC439-DE5F-4E3F-BCC5-85CFCBDF3F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57D4F-6C38-439B-BD49-AD8C8ED456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363D3-3C9F-4685-9EC1-339BF39E1C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F8DD9-A077-4353-AAF7-122D857103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5C476-9A2E-4E21-A027-AC10F7DC31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6E2B8-154E-4BB0-97E8-CDB0E67DFC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3B0BE-C4D2-42CF-9226-A92B554C32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1C6DA-42C5-4FD7-8992-8B6E47D971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2B6AA-323F-4E33-AD4E-51F255AECB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9A8DC-3D18-40AA-B65E-C6F77F046E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BC3EA-B3DF-4D44-820A-B7DE3BA945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27D8C-3025-4FC4-B2BD-4AD2436A91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CB752-3445-4F1E-9352-5C77A7D717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CECA8-A513-4C25-97F7-D2AD66FFD1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21:47:01Z</cp:lastPrinted>
  <dcterms:modified xsi:type="dcterms:W3CDTF">2008-06-04T22:13:32Z</dcterms:modified>
  <cp:revision>84</cp:revision>
  <dc:subject/>
  <dc:title>AT Basic System Example</dc:title>
</cp:coreProperties>
</file>