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2BBD-4EC5-4B3E-85CE-FFF2837FF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9EC8-FC01-4EAD-BE23-D53B37A99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56C6-D9B8-4A83-B8BA-24F7F6727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0AFF-85F5-42DA-B2FD-8BA2B0731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0915-2E1D-4A6E-81FF-2FC4C4F22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E5F76-8E53-4A1C-8F6D-A15EE7151E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F9472-FB2A-45D7-8CEA-DF1103B6F7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C83BB-9CB6-45F8-8641-26C85EAC6B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00092-D46E-47CA-AC87-1EEAB3082D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B23BD-AEB7-442B-80A6-0A354D4B0D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D73CB-1914-4B3F-ACAB-DBDB5CDDB4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30128-9849-4381-BA8A-1F93DF69A9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D2D92-D55E-4958-BCE3-28DB73EEC7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5E4A3-ACFF-48DA-A30E-B7D2F1C99E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93499-DA35-4F25-8471-364F2BA64A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A555C-3C30-429C-8478-D05425307C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C58B2-67DF-45E9-9A7C-6B17F23DCB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9D31-C84F-423A-A83D-B6C490074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18:30:41Z</cp:lastPrinted>
  <dcterms:modified xsi:type="dcterms:W3CDTF">2009-05-04T21:38:14Z</dcterms:modified>
  <cp:revision>91</cp:revision>
  <dc:subject/>
  <dc:title>AT Basic System Example</dc:title>
</cp:coreProperties>
</file>