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EE51-D099-45D5-AE55-936F35D0E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2F1D-FBE2-4E6C-B8C3-650FA988F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3A6C-B83C-49A7-A14F-F8494573D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B620-0F8B-4417-A51B-0FE3017F3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CA54-9887-49BF-89DB-E8E176794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157A-901B-47A7-A691-3B94DAFCC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30B41-7332-4D5A-9D29-67CC7DDDDF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62B14-A1B4-4097-88FF-06526096EB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0C086-CA2F-425D-AB54-51C0B60692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5F869-97AB-4318-940F-FAB30D6D1B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C24C7-2B0A-46AC-8CEF-A542EA60FA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D0A8E-50F2-49A9-B7B5-0E431AA605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54696-A436-4573-B494-F9D840BC66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A6428-E90A-43A6-88DB-4CE4B3D22E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002AF-B947-4583-AD05-88B68219E4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EAD80-1708-40F3-80E4-BC5C218087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F606B-AEB0-4C6D-A722-901885B43E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FDBB3-B565-423B-B920-73BE8C9741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E09D-46EA-43A6-AD07-6D875A746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Destruction Resurrection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Resurrection of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464840"/>
            <a:ext cx="86868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a parameter is destructed, all handles to that parameter are no longer valid and should not be us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rameter can be resurrected by the owner module and can be initialized to a new valu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akes the parameter handle valid again and usage can resu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that a parameter can be resurrected from the owner module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43160" y="36482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19040" y="4815000"/>
            <a:ext cx="1486440" cy="155160"/>
            <a:chOff x="3119040" y="48150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40280" y="48150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19040" y="49665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27040" y="3741840"/>
            <a:ext cx="15573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43160" y="4361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157560" y="1776240"/>
            <a:ext cx="2722680" cy="2970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*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2"/>
          <p:cNvSpPr/>
          <p:nvPr/>
        </p:nvSpPr>
        <p:spPr>
          <a:xfrm>
            <a:off x="3205080" y="4452840"/>
            <a:ext cx="1629000" cy="282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Folded Corner 42"/>
          <p:cNvSpPr/>
          <p:nvPr/>
        </p:nvSpPr>
        <p:spPr>
          <a:xfrm>
            <a:off x="3230640" y="3581280"/>
            <a:ext cx="336708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handle.set_cci_value(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Folded Corner 26"/>
          <p:cNvSpPr/>
          <p:nvPr/>
        </p:nvSpPr>
        <p:spPr>
          <a:xfrm>
            <a:off x="1432080" y="308772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1" name="Straight Arrow Connector 39"/>
          <p:cNvCxnSpPr/>
          <p:nvPr/>
        </p:nvCxnSpPr>
        <p:spPr>
          <a:xfrm flipH="1" flipV="1">
            <a:off x="3118680" y="39780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Folded Corner 42"/>
          <p:cNvSpPr/>
          <p:nvPr/>
        </p:nvSpPr>
        <p:spPr>
          <a:xfrm>
            <a:off x="3230640" y="266544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14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5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" name="Straight Arrow Connector 16"/>
          <p:cNvCxnSpPr>
            <a:stCxn id="1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" name="Straight Arrow Connector 17"/>
          <p:cNvCxnSpPr>
            <a:stCxn id="1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TextBox 27"/>
          <p:cNvSpPr/>
          <p:nvPr/>
        </p:nvSpPr>
        <p:spPr>
          <a:xfrm>
            <a:off x="443520" y="17762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5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28"/>
          <p:cNvSpPr/>
          <p:nvPr/>
        </p:nvSpPr>
        <p:spPr>
          <a:xfrm>
            <a:off x="443160" y="3659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9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Folded Corner 42"/>
          <p:cNvSpPr/>
          <p:nvPr/>
        </p:nvSpPr>
        <p:spPr>
          <a:xfrm>
            <a:off x="3287880" y="3716280"/>
            <a:ext cx="1457280" cy="284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new value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6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Folded Corner 42"/>
          <p:cNvSpPr/>
          <p:nvPr/>
        </p:nvSpPr>
        <p:spPr>
          <a:xfrm>
            <a:off x="5259240" y="1859040"/>
            <a:ext cx="2627640" cy="455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 that the parameter handle of sim_ip.int_param is now inval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Folded Corner 26"/>
          <p:cNvSpPr/>
          <p:nvPr/>
        </p:nvSpPr>
        <p:spPr>
          <a:xfrm>
            <a:off x="1332000" y="3087720"/>
            <a:ext cx="16826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Folded Corner 42"/>
          <p:cNvSpPr/>
          <p:nvPr/>
        </p:nvSpPr>
        <p:spPr>
          <a:xfrm>
            <a:off x="3230640" y="2587680"/>
            <a:ext cx="2452680" cy="4334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ptr = new cci_param&lt;int&gt;("int_param", -10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31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32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33" name="Folded Corner 42"/>
          <p:cNvSpPr/>
          <p:nvPr/>
        </p:nvSpPr>
        <p:spPr>
          <a:xfrm>
            <a:off x="5259240" y="3413160"/>
            <a:ext cx="2562480" cy="6062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up the sim_ip.int_param handle again and confirm its validity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Straight Arrow Connector 39"/>
          <p:cNvCxnSpPr/>
          <p:nvPr/>
        </p:nvCxnSpPr>
        <p:spPr>
          <a:xfrm flipH="1" flipV="1">
            <a:off x="3118680" y="40716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5" name="Folded Corner 26"/>
          <p:cNvSpPr/>
          <p:nvPr/>
        </p:nvSpPr>
        <p:spPr>
          <a:xfrm>
            <a:off x="1332000" y="3728880"/>
            <a:ext cx="1657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1_Param_Destruction_Resurrection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int_param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int_param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Current value of int_param is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30 ns, execute: Destroy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50 ns, execute: [EXTERNAL] Parameter handle of sim_ip.int_param is no more vali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60 ns, execute: Resurrect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Parameter handle of sim_ip.int_param is valid agai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47:40Z</dcterms:modified>
  <cp:revision>170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7:40Z</vt:lpwstr>
  </property>
  <property fmtid="{D5CDD505-2E9C-101B-9397-08002B2CF9AE}" pid="5" name="TitusGUID">
    <vt:lpwstr>ea6cc5ed-1c1b-4aa0-91f1-9c2633a3b32b</vt:lpwstr>
  </property>
</Properties>
</file>