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669000" cy="992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77820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871560" y="744120"/>
            <a:ext cx="4849920" cy="36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942984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C84EB1-6274-4660-B17C-C7F552FDA6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418747-5EBF-4A79-AF89-77ABAC7FDAA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B0483E-7B48-4526-B562-E3F40C22122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AA110C-8FD6-4B8B-B2F1-FA17D085F7E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AutoShape 3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C4B416-177C-4960-9092-23BA5C9BF2D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8A364D-0A88-48B9-B49A-3B4009B6C01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2A6BD3-C853-40C3-A994-1D3A646E7D6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3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AF110E-2054-4940-88D2-8AC5B3152AF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34224F-40CB-4183-941B-A466AF2AF1B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69D5B5-A9C5-4452-9F64-F6045D034BE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8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8DADE1-D2E6-45A1-8E3A-559B1D55D10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9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2591E1-55DE-4A09-B409-1D8683B544C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1D147C-5B86-4E23-A90F-1CD61410C0B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2271F3-B930-490D-B977-BCE6F9DB484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4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555E54-82FF-4110-B077-C1A50C44E6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C46432-4BDD-48F7-AEC1-C8F23B6F60A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5B74B0-D91E-4661-B9A2-D6C25602631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4AC1D6-137A-4E42-81FE-0FB4FC5B7F2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0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C906D8-EE03-481D-825C-D3AE64B6D8B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1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CF5635-9061-4431-A74A-42C4C21ADE1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A10A1F-400D-4BE2-B8B7-ABF1F25F834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EC3701-F252-4D35-B1B6-AE11EAF5814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D2AF43-32B4-4E84-9779-871D210ECB1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7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8D2B90-2337-4413-AA21-0E20A2FD671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3BF7FB-AF2B-48C6-A99C-8DE8FCF0788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040E84-F1DC-4AB7-B17F-6675FCCEB0B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6102C8-8E79-41B8-92EF-0E8B43CA13A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3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0F1690-4BD6-4B5E-8531-CE7EA3A6979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406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306506-F3DC-4D18-96FD-4DF370F21D2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849920" cy="363852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87388C-3990-4D22-AD93-2BCF50294F5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849920" cy="363852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C5AC78-BB5B-4484-88B9-EB033776340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8CD05-50A1-4F7B-8F7A-C3A3C6D8BA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83451-7EB0-453B-9A6F-7CC99B040C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7B2F5-5EF6-4731-BAED-846C63367B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384C3-7B3B-4073-B527-D2AC44524B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ADC46-54CC-4606-A531-2EF2A2B746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B22ED-D2D2-43D6-BA81-978380B9DFB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249AA-83B6-48C9-A767-5C28D5A827F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44EA9-B8AF-488D-973D-BF800F105A0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813E1-0946-47C0-B3AA-76ECDD99FF1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E946C-51FF-40BE-A897-4910874187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0BDCD-7BA5-4233-9113-A93A1D95CE4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7C8E3-5B73-441C-8D5B-2F6AC51843C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27338-2C30-48A9-ADC8-A9537FA9D96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8789D-0679-4C3A-9FFD-D82E5D54CFC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69CF0-D0FE-405B-8089-2190DA15A36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306EC-DB5D-404E-B190-152B6742658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D0305-EBD4-44FC-AB31-4E35DB013AF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B30EB-FCB7-43D7-ACC0-47C512AD71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0CA90-79FD-4AB7-B288-ADE7CEB1DF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71BCA-D6F1-419E-B88B-CCFBD9AE6F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ED13B-E563-4426-980F-D305CD4839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7345D-BB53-448A-BD4B-87AEC0DC60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73582-6DB9-4544-9D9B-734DFCD135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092D7-21AA-4F27-9DD9-1C11C73236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F43C9B-C627-46E8-81B7-66196044822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8B9419CD-CD18-488B-8463-081866DA8A0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2"/>
          <p:cNvSpPr/>
          <p:nvPr/>
        </p:nvSpPr>
        <p:spPr>
          <a:xfrm>
            <a:off x="3733920" y="5181480"/>
            <a:ext cx="4572000" cy="120024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Aug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earching and Directly Associating Parameters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 Searches (R3), and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 Value Synchronization to address Different Names, Same Intended Meaning (UC9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Searching &amp; Directly Associating Paramet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1"/>
          <p:cNvGrpSpPr/>
          <p:nvPr/>
        </p:nvGrpSpPr>
        <p:grpSpPr>
          <a:xfrm>
            <a:off x="76320" y="2590920"/>
            <a:ext cx="8961480" cy="3549600"/>
            <a:chOff x="76320" y="2590920"/>
            <a:chExt cx="8961480" cy="3549600"/>
          </a:xfrm>
        </p:grpSpPr>
        <p:sp>
          <p:nvSpPr>
            <p:cNvPr id="184" name="AutoShape 3"/>
            <p:cNvSpPr/>
            <p:nvPr/>
          </p:nvSpPr>
          <p:spPr>
            <a:xfrm>
              <a:off x="76320" y="2590920"/>
              <a:ext cx="8961480" cy="29412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5" name="AutoShape 8"/>
            <p:cNvSpPr/>
            <p:nvPr/>
          </p:nvSpPr>
          <p:spPr>
            <a:xfrm>
              <a:off x="3961080" y="5646240"/>
              <a:ext cx="1601640" cy="494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Top_Module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86" name="AutoShape 23"/>
          <p:cNvSpPr/>
          <p:nvPr/>
        </p:nvSpPr>
        <p:spPr>
          <a:xfrm>
            <a:off x="2666880" y="2719440"/>
            <a:ext cx="365760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Create two 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arameter_owner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modul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87" name="Group 40"/>
          <p:cNvGrpSpPr/>
          <p:nvPr/>
        </p:nvGrpSpPr>
        <p:grpSpPr>
          <a:xfrm>
            <a:off x="2403000" y="1227960"/>
            <a:ext cx="4374720" cy="986760"/>
            <a:chOff x="2403000" y="1227960"/>
            <a:chExt cx="4374720" cy="986760"/>
          </a:xfrm>
        </p:grpSpPr>
        <p:sp>
          <p:nvSpPr>
            <p:cNvPr id="188" name="AutoShape 23"/>
            <p:cNvSpPr/>
            <p:nvPr/>
          </p:nvSpPr>
          <p:spPr>
            <a:xfrm>
              <a:off x="2403000" y="1227960"/>
              <a:ext cx="4374720" cy="5202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Get handles for owner modules’ parameters usi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onfiguration broker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Bitstream Charter"/>
                </a:rPr>
                <a:t>Name-based Look Up Acces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9" name="AutoShape 5"/>
            <p:cNvSpPr/>
            <p:nvPr/>
          </p:nvSpPr>
          <p:spPr>
            <a:xfrm>
              <a:off x="3373200" y="1843200"/>
              <a:ext cx="23616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0" name="Group 32"/>
          <p:cNvGrpSpPr/>
          <p:nvPr/>
        </p:nvGrpSpPr>
        <p:grpSpPr>
          <a:xfrm>
            <a:off x="304920" y="4429080"/>
            <a:ext cx="4030560" cy="981000"/>
            <a:chOff x="304920" y="4429080"/>
            <a:chExt cx="4030560" cy="981000"/>
          </a:xfrm>
        </p:grpSpPr>
        <p:grpSp>
          <p:nvGrpSpPr>
            <p:cNvPr id="191" name="Group 29"/>
            <p:cNvGrpSpPr/>
            <p:nvPr/>
          </p:nvGrpSpPr>
          <p:grpSpPr>
            <a:xfrm>
              <a:off x="304920" y="4429080"/>
              <a:ext cx="4030560" cy="533520"/>
              <a:chOff x="304920" y="4429080"/>
              <a:chExt cx="4030560" cy="533520"/>
            </a:xfrm>
          </p:grpSpPr>
          <p:sp>
            <p:nvSpPr>
              <p:cNvPr id="192" name="AutoShape 11"/>
              <p:cNvSpPr/>
              <p:nvPr/>
            </p:nvSpPr>
            <p:spPr>
              <a:xfrm>
                <a:off x="304920" y="4429080"/>
                <a:ext cx="403056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193" name="Group 28"/>
              <p:cNvGrpSpPr/>
              <p:nvPr/>
            </p:nvGrpSpPr>
            <p:grpSpPr>
              <a:xfrm>
                <a:off x="449280" y="4530240"/>
                <a:ext cx="3741840" cy="298800"/>
                <a:chOff x="449280" y="4530240"/>
                <a:chExt cx="3741840" cy="298800"/>
              </a:xfrm>
            </p:grpSpPr>
            <p:sp>
              <p:nvSpPr>
                <p:cNvPr id="194" name="AutoShape 12"/>
                <p:cNvSpPr/>
                <p:nvPr/>
              </p:nvSpPr>
              <p:spPr>
                <a:xfrm>
                  <a:off x="449280" y="4530240"/>
                  <a:ext cx="198936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195" name="AutoShape 15"/>
                <p:cNvSpPr/>
                <p:nvPr/>
              </p:nvSpPr>
              <p:spPr>
                <a:xfrm>
                  <a:off x="2362320" y="4530240"/>
                  <a:ext cx="182880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98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96" name="AutoShape 6"/>
            <p:cNvSpPr/>
            <p:nvPr/>
          </p:nvSpPr>
          <p:spPr>
            <a:xfrm>
              <a:off x="1220760" y="503856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7" name="Group 2"/>
          <p:cNvGrpSpPr/>
          <p:nvPr/>
        </p:nvGrpSpPr>
        <p:grpSpPr>
          <a:xfrm>
            <a:off x="4419720" y="4429080"/>
            <a:ext cx="4411440" cy="981000"/>
            <a:chOff x="4419720" y="4429080"/>
            <a:chExt cx="4411440" cy="981000"/>
          </a:xfrm>
        </p:grpSpPr>
        <p:grpSp>
          <p:nvGrpSpPr>
            <p:cNvPr id="198" name="Group 31"/>
            <p:cNvGrpSpPr/>
            <p:nvPr/>
          </p:nvGrpSpPr>
          <p:grpSpPr>
            <a:xfrm>
              <a:off x="4419720" y="4429080"/>
              <a:ext cx="4411440" cy="533520"/>
              <a:chOff x="4419720" y="4429080"/>
              <a:chExt cx="4411440" cy="533520"/>
            </a:xfrm>
          </p:grpSpPr>
          <p:sp>
            <p:nvSpPr>
              <p:cNvPr id="199" name="AutoShape 11"/>
              <p:cNvSpPr/>
              <p:nvPr/>
            </p:nvSpPr>
            <p:spPr>
              <a:xfrm>
                <a:off x="4419720" y="4429080"/>
                <a:ext cx="441144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00" name="Group 30"/>
              <p:cNvGrpSpPr/>
              <p:nvPr/>
            </p:nvGrpSpPr>
            <p:grpSpPr>
              <a:xfrm>
                <a:off x="4556160" y="4505040"/>
                <a:ext cx="4275000" cy="341280"/>
                <a:chOff x="4556160" y="4505040"/>
                <a:chExt cx="4275000" cy="341280"/>
              </a:xfrm>
            </p:grpSpPr>
            <p:sp>
              <p:nvSpPr>
                <p:cNvPr id="201" name="AutoShape 12"/>
                <p:cNvSpPr/>
                <p:nvPr/>
              </p:nvSpPr>
              <p:spPr>
                <a:xfrm>
                  <a:off x="4556160" y="4505040"/>
                  <a:ext cx="245412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02" name="AutoShape 15"/>
                <p:cNvSpPr/>
                <p:nvPr/>
              </p:nvSpPr>
              <p:spPr>
                <a:xfrm>
                  <a:off x="6850080" y="4505040"/>
                  <a:ext cx="198108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03" name="AutoShape 6"/>
            <p:cNvSpPr/>
            <p:nvPr/>
          </p:nvSpPr>
          <p:spPr>
            <a:xfrm>
              <a:off x="5716440" y="503856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4" name="AutoShape 23"/>
          <p:cNvSpPr/>
          <p:nvPr/>
        </p:nvSpPr>
        <p:spPr>
          <a:xfrm>
            <a:off x="1447920" y="3222720"/>
            <a:ext cx="617220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stantiate a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param_value_sync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class to synchronize the parameter valu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AutoShape 23"/>
          <p:cNvSpPr/>
          <p:nvPr/>
        </p:nvSpPr>
        <p:spPr>
          <a:xfrm>
            <a:off x="1447920" y="3710160"/>
            <a:ext cx="617220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ends the list of selected cci_param_handles to the 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aram_value_sync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Rectangle 26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AutoShape 3"/>
          <p:cNvSpPr/>
          <p:nvPr/>
        </p:nvSpPr>
        <p:spPr>
          <a:xfrm>
            <a:off x="109440" y="2435400"/>
            <a:ext cx="8961480" cy="327636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09" name="Group 3"/>
          <p:cNvGrpSpPr/>
          <p:nvPr/>
        </p:nvGrpSpPr>
        <p:grpSpPr>
          <a:xfrm>
            <a:off x="1447920" y="3071880"/>
            <a:ext cx="6400800" cy="1366920"/>
            <a:chOff x="1447920" y="3071880"/>
            <a:chExt cx="6400800" cy="1366920"/>
          </a:xfrm>
        </p:grpSpPr>
        <p:sp>
          <p:nvSpPr>
            <p:cNvPr id="210" name="AutoShape 23"/>
            <p:cNvSpPr/>
            <p:nvPr/>
          </p:nvSpPr>
          <p:spPr>
            <a:xfrm>
              <a:off x="1447920" y="3071880"/>
              <a:ext cx="6400800" cy="99072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1" name="AutoShape 6"/>
            <p:cNvSpPr/>
            <p:nvPr/>
          </p:nvSpPr>
          <p:spPr>
            <a:xfrm>
              <a:off x="3473640" y="4151520"/>
              <a:ext cx="1970640" cy="28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92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_value_sync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12" name="AutoShape 8"/>
          <p:cNvSpPr/>
          <p:nvPr/>
        </p:nvSpPr>
        <p:spPr>
          <a:xfrm>
            <a:off x="3657600" y="5867280"/>
            <a:ext cx="1601640" cy="2286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Top_Modu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13" name="Group 40"/>
          <p:cNvGrpSpPr/>
          <p:nvPr/>
        </p:nvGrpSpPr>
        <p:grpSpPr>
          <a:xfrm>
            <a:off x="1763640" y="1248840"/>
            <a:ext cx="5770800" cy="950400"/>
            <a:chOff x="1763640" y="1248840"/>
            <a:chExt cx="5770800" cy="950400"/>
          </a:xfrm>
        </p:grpSpPr>
        <p:sp>
          <p:nvSpPr>
            <p:cNvPr id="214" name="AutoShape 23"/>
            <p:cNvSpPr/>
            <p:nvPr/>
          </p:nvSpPr>
          <p:spPr>
            <a:xfrm>
              <a:off x="1763640" y="1248840"/>
              <a:ext cx="5770800" cy="5202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already stored the handles of the owner modul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ci_parameters to respective cci_param_handle through the brok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5" name="AutoShape 5"/>
            <p:cNvSpPr/>
            <p:nvPr/>
          </p:nvSpPr>
          <p:spPr>
            <a:xfrm>
              <a:off x="3277080" y="1895040"/>
              <a:ext cx="2362320" cy="3042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16" name="Group 32"/>
          <p:cNvGrpSpPr/>
          <p:nvPr/>
        </p:nvGrpSpPr>
        <p:grpSpPr>
          <a:xfrm>
            <a:off x="304920" y="4581360"/>
            <a:ext cx="4030560" cy="981360"/>
            <a:chOff x="304920" y="4581360"/>
            <a:chExt cx="4030560" cy="981360"/>
          </a:xfrm>
        </p:grpSpPr>
        <p:grpSp>
          <p:nvGrpSpPr>
            <p:cNvPr id="217" name="Group 29"/>
            <p:cNvGrpSpPr/>
            <p:nvPr/>
          </p:nvGrpSpPr>
          <p:grpSpPr>
            <a:xfrm>
              <a:off x="304920" y="4581360"/>
              <a:ext cx="4030560" cy="533520"/>
              <a:chOff x="304920" y="4581360"/>
              <a:chExt cx="4030560" cy="533520"/>
            </a:xfrm>
          </p:grpSpPr>
          <p:sp>
            <p:nvSpPr>
              <p:cNvPr id="218" name="AutoShape 11"/>
              <p:cNvSpPr/>
              <p:nvPr/>
            </p:nvSpPr>
            <p:spPr>
              <a:xfrm>
                <a:off x="304920" y="4581360"/>
                <a:ext cx="403056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19" name="Group 28"/>
              <p:cNvGrpSpPr/>
              <p:nvPr/>
            </p:nvGrpSpPr>
            <p:grpSpPr>
              <a:xfrm>
                <a:off x="449280" y="4682520"/>
                <a:ext cx="3741840" cy="298800"/>
                <a:chOff x="449280" y="4682520"/>
                <a:chExt cx="3741840" cy="298800"/>
              </a:xfrm>
            </p:grpSpPr>
            <p:sp>
              <p:nvSpPr>
                <p:cNvPr id="220" name="AutoShape 12"/>
                <p:cNvSpPr/>
                <p:nvPr/>
              </p:nvSpPr>
              <p:spPr>
                <a:xfrm>
                  <a:off x="449280" y="4682520"/>
                  <a:ext cx="198936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21" name="AutoShape 15"/>
                <p:cNvSpPr/>
                <p:nvPr/>
              </p:nvSpPr>
              <p:spPr>
                <a:xfrm>
                  <a:off x="2362320" y="4682520"/>
                  <a:ext cx="182880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98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22" name="AutoShape 6"/>
            <p:cNvSpPr/>
            <p:nvPr/>
          </p:nvSpPr>
          <p:spPr>
            <a:xfrm>
              <a:off x="1220760" y="519120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23" name="Group 2"/>
          <p:cNvGrpSpPr/>
          <p:nvPr/>
        </p:nvGrpSpPr>
        <p:grpSpPr>
          <a:xfrm>
            <a:off x="4419720" y="4581360"/>
            <a:ext cx="4411440" cy="981360"/>
            <a:chOff x="4419720" y="4581360"/>
            <a:chExt cx="4411440" cy="981360"/>
          </a:xfrm>
        </p:grpSpPr>
        <p:grpSp>
          <p:nvGrpSpPr>
            <p:cNvPr id="224" name="Group 31"/>
            <p:cNvGrpSpPr/>
            <p:nvPr/>
          </p:nvGrpSpPr>
          <p:grpSpPr>
            <a:xfrm>
              <a:off x="4419720" y="4581360"/>
              <a:ext cx="4411440" cy="533520"/>
              <a:chOff x="4419720" y="4581360"/>
              <a:chExt cx="4411440" cy="533520"/>
            </a:xfrm>
          </p:grpSpPr>
          <p:sp>
            <p:nvSpPr>
              <p:cNvPr id="225" name="AutoShape 11"/>
              <p:cNvSpPr/>
              <p:nvPr/>
            </p:nvSpPr>
            <p:spPr>
              <a:xfrm>
                <a:off x="4419720" y="4581360"/>
                <a:ext cx="441144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26" name="Group 30"/>
              <p:cNvGrpSpPr/>
              <p:nvPr/>
            </p:nvGrpSpPr>
            <p:grpSpPr>
              <a:xfrm>
                <a:off x="4556160" y="4657320"/>
                <a:ext cx="4122720" cy="341280"/>
                <a:chOff x="4556160" y="4657320"/>
                <a:chExt cx="4122720" cy="341280"/>
              </a:xfrm>
            </p:grpSpPr>
            <p:sp>
              <p:nvSpPr>
                <p:cNvPr id="227" name="AutoShape 12"/>
                <p:cNvSpPr/>
                <p:nvPr/>
              </p:nvSpPr>
              <p:spPr>
                <a:xfrm>
                  <a:off x="4556160" y="4657320"/>
                  <a:ext cx="237816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28" name="AutoShape 15"/>
                <p:cNvSpPr/>
                <p:nvPr/>
              </p:nvSpPr>
              <p:spPr>
                <a:xfrm>
                  <a:off x="6850080" y="4657320"/>
                  <a:ext cx="182880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6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29" name="AutoShape 6"/>
            <p:cNvSpPr/>
            <p:nvPr/>
          </p:nvSpPr>
          <p:spPr>
            <a:xfrm>
              <a:off x="5716440" y="519120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30" name="AutoShape 23"/>
          <p:cNvSpPr/>
          <p:nvPr/>
        </p:nvSpPr>
        <p:spPr>
          <a:xfrm>
            <a:off x="2178720" y="2437560"/>
            <a:ext cx="4786200" cy="4590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lect a list of cci-parameters using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get_param_handle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API using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Name-based Look Up Access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and pass it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param_value_sync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Oval 25"/>
          <p:cNvSpPr/>
          <p:nvPr/>
        </p:nvSpPr>
        <p:spPr>
          <a:xfrm>
            <a:off x="380880" y="4648320"/>
            <a:ext cx="205740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Oval 26"/>
          <p:cNvSpPr/>
          <p:nvPr/>
        </p:nvSpPr>
        <p:spPr>
          <a:xfrm>
            <a:off x="4495680" y="4648320"/>
            <a:ext cx="243864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AutoShape 23"/>
          <p:cNvSpPr/>
          <p:nvPr/>
        </p:nvSpPr>
        <p:spPr>
          <a:xfrm>
            <a:off x="3474360" y="3283200"/>
            <a:ext cx="4252680" cy="5202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With one cci-parameter as the reference,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write it’s default value to the other cci-paramet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AutoShape 23"/>
          <p:cNvSpPr/>
          <p:nvPr/>
        </p:nvSpPr>
        <p:spPr>
          <a:xfrm>
            <a:off x="1676520" y="3209760"/>
            <a:ext cx="1752480" cy="6858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A way to sync startup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values of 2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parameter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Rectangle 3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AutoShape 3"/>
          <p:cNvSpPr/>
          <p:nvPr/>
        </p:nvSpPr>
        <p:spPr>
          <a:xfrm>
            <a:off x="76320" y="2057400"/>
            <a:ext cx="8961480" cy="36990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AutoShape 23"/>
          <p:cNvSpPr/>
          <p:nvPr/>
        </p:nvSpPr>
        <p:spPr>
          <a:xfrm>
            <a:off x="533520" y="2133720"/>
            <a:ext cx="8153280" cy="18288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AutoShape 8"/>
          <p:cNvSpPr/>
          <p:nvPr/>
        </p:nvSpPr>
        <p:spPr>
          <a:xfrm>
            <a:off x="3960720" y="5872320"/>
            <a:ext cx="1602000" cy="2235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2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Top_Modu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40" name="Group 40"/>
          <p:cNvGrpSpPr/>
          <p:nvPr/>
        </p:nvGrpSpPr>
        <p:grpSpPr>
          <a:xfrm>
            <a:off x="1630440" y="1184040"/>
            <a:ext cx="5731200" cy="749520"/>
            <a:chOff x="1630440" y="1184040"/>
            <a:chExt cx="5731200" cy="749520"/>
          </a:xfrm>
        </p:grpSpPr>
        <p:sp>
          <p:nvSpPr>
            <p:cNvPr id="241" name="AutoShape 5"/>
            <p:cNvSpPr/>
            <p:nvPr/>
          </p:nvSpPr>
          <p:spPr>
            <a:xfrm>
              <a:off x="3237840" y="1556640"/>
              <a:ext cx="2361960" cy="3769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2" name="AutoShape 23"/>
            <p:cNvSpPr/>
            <p:nvPr/>
          </p:nvSpPr>
          <p:spPr>
            <a:xfrm>
              <a:off x="1630440" y="1184040"/>
              <a:ext cx="5731200" cy="30708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already initialized handles of parameters to by sync’d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43" name="Group 32"/>
          <p:cNvGrpSpPr/>
          <p:nvPr/>
        </p:nvGrpSpPr>
        <p:grpSpPr>
          <a:xfrm>
            <a:off x="304920" y="4572000"/>
            <a:ext cx="4030560" cy="996840"/>
            <a:chOff x="304920" y="4572000"/>
            <a:chExt cx="4030560" cy="996840"/>
          </a:xfrm>
        </p:grpSpPr>
        <p:grpSp>
          <p:nvGrpSpPr>
            <p:cNvPr id="244" name="Group 29"/>
            <p:cNvGrpSpPr/>
            <p:nvPr/>
          </p:nvGrpSpPr>
          <p:grpSpPr>
            <a:xfrm>
              <a:off x="304920" y="4572000"/>
              <a:ext cx="4030560" cy="542160"/>
              <a:chOff x="304920" y="4572000"/>
              <a:chExt cx="4030560" cy="542160"/>
            </a:xfrm>
          </p:grpSpPr>
          <p:sp>
            <p:nvSpPr>
              <p:cNvPr id="245" name="AutoShape 11"/>
              <p:cNvSpPr/>
              <p:nvPr/>
            </p:nvSpPr>
            <p:spPr>
              <a:xfrm>
                <a:off x="304920" y="4572000"/>
                <a:ext cx="4030560" cy="54216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46" name="Group 28"/>
              <p:cNvGrpSpPr/>
              <p:nvPr/>
            </p:nvGrpSpPr>
            <p:grpSpPr>
              <a:xfrm>
                <a:off x="449280" y="4674960"/>
                <a:ext cx="3741840" cy="303480"/>
                <a:chOff x="449280" y="4674960"/>
                <a:chExt cx="3741840" cy="303480"/>
              </a:xfrm>
            </p:grpSpPr>
            <p:sp>
              <p:nvSpPr>
                <p:cNvPr id="247" name="AutoShape 12"/>
                <p:cNvSpPr/>
                <p:nvPr/>
              </p:nvSpPr>
              <p:spPr>
                <a:xfrm>
                  <a:off x="449280" y="4674960"/>
                  <a:ext cx="1989360" cy="3034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48" name="AutoShape 15"/>
                <p:cNvSpPr/>
                <p:nvPr/>
              </p:nvSpPr>
              <p:spPr>
                <a:xfrm>
                  <a:off x="2362320" y="4674960"/>
                  <a:ext cx="1828800" cy="3034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79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49" name="AutoShape 6"/>
            <p:cNvSpPr/>
            <p:nvPr/>
          </p:nvSpPr>
          <p:spPr>
            <a:xfrm>
              <a:off x="1220760" y="5191560"/>
              <a:ext cx="182700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50" name="Group 2"/>
          <p:cNvGrpSpPr/>
          <p:nvPr/>
        </p:nvGrpSpPr>
        <p:grpSpPr>
          <a:xfrm>
            <a:off x="4419720" y="4572000"/>
            <a:ext cx="4411440" cy="996840"/>
            <a:chOff x="4419720" y="4572000"/>
            <a:chExt cx="4411440" cy="996840"/>
          </a:xfrm>
        </p:grpSpPr>
        <p:grpSp>
          <p:nvGrpSpPr>
            <p:cNvPr id="251" name="Group 31"/>
            <p:cNvGrpSpPr/>
            <p:nvPr/>
          </p:nvGrpSpPr>
          <p:grpSpPr>
            <a:xfrm>
              <a:off x="4419720" y="4572000"/>
              <a:ext cx="4411440" cy="542160"/>
              <a:chOff x="4419720" y="4572000"/>
              <a:chExt cx="4411440" cy="542160"/>
            </a:xfrm>
          </p:grpSpPr>
          <p:sp>
            <p:nvSpPr>
              <p:cNvPr id="252" name="AutoShape 11"/>
              <p:cNvSpPr/>
              <p:nvPr/>
            </p:nvSpPr>
            <p:spPr>
              <a:xfrm>
                <a:off x="4419720" y="4572000"/>
                <a:ext cx="4411440" cy="54216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53" name="Group 30"/>
              <p:cNvGrpSpPr/>
              <p:nvPr/>
            </p:nvGrpSpPr>
            <p:grpSpPr>
              <a:xfrm>
                <a:off x="4556160" y="4649400"/>
                <a:ext cx="4275000" cy="347040"/>
                <a:chOff x="4556160" y="4649400"/>
                <a:chExt cx="4275000" cy="347040"/>
              </a:xfrm>
            </p:grpSpPr>
            <p:sp>
              <p:nvSpPr>
                <p:cNvPr id="254" name="AutoShape 12"/>
                <p:cNvSpPr/>
                <p:nvPr/>
              </p:nvSpPr>
              <p:spPr>
                <a:xfrm>
                  <a:off x="4556160" y="4649400"/>
                  <a:ext cx="2378160" cy="34704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55" name="AutoShape 15"/>
                <p:cNvSpPr/>
                <p:nvPr/>
              </p:nvSpPr>
              <p:spPr>
                <a:xfrm>
                  <a:off x="6850080" y="4649400"/>
                  <a:ext cx="1981080" cy="34704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56" name="AutoShape 6"/>
            <p:cNvSpPr/>
            <p:nvPr/>
          </p:nvSpPr>
          <p:spPr>
            <a:xfrm>
              <a:off x="5716440" y="5191560"/>
              <a:ext cx="182700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57" name="Oval 25"/>
          <p:cNvSpPr/>
          <p:nvPr/>
        </p:nvSpPr>
        <p:spPr>
          <a:xfrm>
            <a:off x="380880" y="4572000"/>
            <a:ext cx="20574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Oval 26"/>
          <p:cNvSpPr/>
          <p:nvPr/>
        </p:nvSpPr>
        <p:spPr>
          <a:xfrm>
            <a:off x="4495680" y="4572000"/>
            <a:ext cx="23544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AutoShape 23"/>
          <p:cNvSpPr/>
          <p:nvPr/>
        </p:nvSpPr>
        <p:spPr>
          <a:xfrm>
            <a:off x="722160" y="3275280"/>
            <a:ext cx="7852320" cy="30708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 ‘post_write’ callbacks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on the selected parameters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and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Hz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677880" y="2368440"/>
            <a:ext cx="7856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hronize values of the parameter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efore BEOE phase begins)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hValues (cci::cci_param_handle  _param_handle_1, cci::cci_param_handle _param_handle_2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61" name="Curved Connector 10"/>
          <p:cNvCxnSpPr>
            <a:stCxn id="257" idx="0"/>
            <a:endCxn id="258" idx="0"/>
          </p:cNvCxnSpPr>
          <p:nvPr/>
        </p:nvCxnSpPr>
        <p:spPr>
          <a:xfrm flipH="1" rot="16200000">
            <a:off x="3540960" y="2427840"/>
            <a:ext cx="2160" cy="4264560"/>
          </a:xfrm>
          <a:prstGeom prst="curvedConnector5">
            <a:avLst>
              <a:gd name="adj1" fmla="val -13600000"/>
              <a:gd name="adj2" fmla="val 49995"/>
              <a:gd name="adj3" fmla="val -13600000"/>
            </a:avLst>
          </a:prstGeom>
          <a:ln w="19080">
            <a:solidFill>
              <a:srgbClr val="00b050"/>
            </a:solidFill>
            <a:prstDash val="sysDash"/>
            <a:miter/>
            <a:headEnd len="lg" type="triangle" w="lg"/>
            <a:tailEnd len="lg" type="triangle" w="lg"/>
          </a:ln>
        </p:spPr>
      </p:cxnSp>
      <p:sp>
        <p:nvSpPr>
          <p:cNvPr id="262" name="AutoShape 6"/>
          <p:cNvSpPr/>
          <p:nvPr/>
        </p:nvSpPr>
        <p:spPr>
          <a:xfrm>
            <a:off x="3735360" y="4105440"/>
            <a:ext cx="1827360" cy="16164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33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param_value_sync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63" name="Curved Connector 10"/>
          <p:cNvCxnSpPr>
            <a:stCxn id="264" idx="4"/>
            <a:endCxn id="248" idx="2"/>
          </p:cNvCxnSpPr>
          <p:nvPr/>
        </p:nvCxnSpPr>
        <p:spPr>
          <a:xfrm flipV="1" rot="16200000">
            <a:off x="5511600" y="2742480"/>
            <a:ext cx="64080" cy="4534560"/>
          </a:xfrm>
          <a:prstGeom prst="curvedConnector5">
            <a:avLst>
              <a:gd name="adj1" fmla="val -339548"/>
              <a:gd name="adj2" fmla="val 49996"/>
              <a:gd name="adj3" fmla="val -339548"/>
            </a:avLst>
          </a:prstGeom>
          <a:ln w="19080">
            <a:solidFill>
              <a:srgbClr val="00b050"/>
            </a:solidFill>
            <a:prstDash val="sysDash"/>
            <a:miter/>
            <a:headEnd len="lg" type="triangle" w="lg"/>
          </a:ln>
        </p:spPr>
      </p:cxnSp>
      <p:grpSp>
        <p:nvGrpSpPr>
          <p:cNvPr id="265" name="Group 33"/>
          <p:cNvGrpSpPr/>
          <p:nvPr/>
        </p:nvGrpSpPr>
        <p:grpSpPr>
          <a:xfrm>
            <a:off x="6934320" y="4572000"/>
            <a:ext cx="1828800" cy="457200"/>
            <a:chOff x="6934320" y="4572000"/>
            <a:chExt cx="1828800" cy="457200"/>
          </a:xfrm>
        </p:grpSpPr>
        <p:sp>
          <p:nvSpPr>
            <p:cNvPr id="266" name="AutoShape 15"/>
            <p:cNvSpPr/>
            <p:nvPr/>
          </p:nvSpPr>
          <p:spPr>
            <a:xfrm>
              <a:off x="6934320" y="4647960"/>
              <a:ext cx="1828800" cy="30348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1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4" name="Oval 45"/>
            <p:cNvSpPr/>
            <p:nvPr/>
          </p:nvSpPr>
          <p:spPr>
            <a:xfrm>
              <a:off x="6934320" y="4572000"/>
              <a:ext cx="1752480" cy="457200"/>
            </a:xfrm>
            <a:prstGeom prst="ellipse">
              <a:avLst/>
            </a:prstGeom>
            <a:noFill/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67" name="Rectangle 3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Group 49"/>
          <p:cNvGrpSpPr/>
          <p:nvPr/>
        </p:nvGrpSpPr>
        <p:grpSpPr>
          <a:xfrm>
            <a:off x="76320" y="3276720"/>
            <a:ext cx="8961480" cy="2574720"/>
            <a:chOff x="76320" y="3276720"/>
            <a:chExt cx="8961480" cy="2574720"/>
          </a:xfrm>
        </p:grpSpPr>
        <p:grpSp>
          <p:nvGrpSpPr>
            <p:cNvPr id="270" name="Group 48"/>
            <p:cNvGrpSpPr/>
            <p:nvPr/>
          </p:nvGrpSpPr>
          <p:grpSpPr>
            <a:xfrm>
              <a:off x="76320" y="3276720"/>
              <a:ext cx="8961480" cy="2574720"/>
              <a:chOff x="76320" y="3276720"/>
              <a:chExt cx="8961480" cy="2574720"/>
            </a:xfrm>
          </p:grpSpPr>
          <p:grpSp>
            <p:nvGrpSpPr>
              <p:cNvPr id="271" name="Group 47"/>
              <p:cNvGrpSpPr/>
              <p:nvPr/>
            </p:nvGrpSpPr>
            <p:grpSpPr>
              <a:xfrm>
                <a:off x="76320" y="3276720"/>
                <a:ext cx="8961480" cy="2574720"/>
                <a:chOff x="76320" y="3276720"/>
                <a:chExt cx="8961480" cy="2574720"/>
              </a:xfrm>
            </p:grpSpPr>
            <p:grpSp>
              <p:nvGrpSpPr>
                <p:cNvPr id="272" name="Group 46"/>
                <p:cNvGrpSpPr/>
                <p:nvPr/>
              </p:nvGrpSpPr>
              <p:grpSpPr>
                <a:xfrm>
                  <a:off x="76320" y="3276720"/>
                  <a:ext cx="8961480" cy="2574720"/>
                  <a:chOff x="76320" y="3276720"/>
                  <a:chExt cx="8961480" cy="2574720"/>
                </a:xfrm>
              </p:grpSpPr>
              <p:grpSp>
                <p:nvGrpSpPr>
                  <p:cNvPr id="273" name="Group 5"/>
                  <p:cNvGrpSpPr/>
                  <p:nvPr/>
                </p:nvGrpSpPr>
                <p:grpSpPr>
                  <a:xfrm>
                    <a:off x="76320" y="3276720"/>
                    <a:ext cx="8961480" cy="2574720"/>
                    <a:chOff x="76320" y="3276720"/>
                    <a:chExt cx="8961480" cy="2574720"/>
                  </a:xfrm>
                </p:grpSpPr>
                <p:grpSp>
                  <p:nvGrpSpPr>
                    <p:cNvPr id="274" name="Group 1"/>
                    <p:cNvGrpSpPr/>
                    <p:nvPr/>
                  </p:nvGrpSpPr>
                  <p:grpSpPr>
                    <a:xfrm>
                      <a:off x="76320" y="3276720"/>
                      <a:ext cx="8961480" cy="2574720"/>
                      <a:chOff x="76320" y="3276720"/>
                      <a:chExt cx="8961480" cy="2574720"/>
                    </a:xfrm>
                  </p:grpSpPr>
                  <p:sp>
                    <p:nvSpPr>
                      <p:cNvPr id="275" name="AutoShape 3"/>
                      <p:cNvSpPr/>
                      <p:nvPr/>
                    </p:nvSpPr>
                    <p:spPr>
                      <a:xfrm>
                        <a:off x="76320" y="3276720"/>
                        <a:ext cx="8961480" cy="2041560"/>
                      </a:xfrm>
                      <a:prstGeom prst="roundRect">
                        <a:avLst>
                          <a:gd name="adj" fmla="val 134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276" name="AutoShape 8"/>
                      <p:cNvSpPr/>
                      <p:nvPr/>
                    </p:nvSpPr>
                    <p:spPr>
                      <a:xfrm>
                        <a:off x="3961080" y="5341320"/>
                        <a:ext cx="1601640" cy="510120"/>
                      </a:xfrm>
                      <a:prstGeom prst="roundRect">
                        <a:avLst>
                          <a:gd name="adj" fmla="val 426"/>
                        </a:avLst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5000" bIns="45000" anchor="ctr" anchorCtr="1">
                        <a:norm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  <a:tab algn="l" pos="9601200"/>
                            <a:tab algn="l" pos="10058400"/>
                            <a:tab algn="l" pos="10515600"/>
                          </a:tabLst>
                        </a:pP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Bitstream Charter"/>
                          </a:rPr>
                          <a:t>Top_Module</a:t>
                        </a:r>
                        <a:endPara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</p:grpSp>
                <p:grpSp>
                  <p:nvGrpSpPr>
                    <p:cNvPr id="277" name="Group 32"/>
                    <p:cNvGrpSpPr/>
                    <p:nvPr/>
                  </p:nvGrpSpPr>
                  <p:grpSpPr>
                    <a:xfrm>
                      <a:off x="304920" y="4070520"/>
                      <a:ext cx="4030560" cy="963360"/>
                      <a:chOff x="304920" y="4070520"/>
                      <a:chExt cx="4030560" cy="963360"/>
                    </a:xfrm>
                  </p:grpSpPr>
                  <p:grpSp>
                    <p:nvGrpSpPr>
                      <p:cNvPr id="278" name="Group 29"/>
                      <p:cNvGrpSpPr/>
                      <p:nvPr/>
                    </p:nvGrpSpPr>
                    <p:grpSpPr>
                      <a:xfrm>
                        <a:off x="304920" y="4070520"/>
                        <a:ext cx="4030560" cy="523800"/>
                        <a:chOff x="304920" y="4070520"/>
                        <a:chExt cx="4030560" cy="523800"/>
                      </a:xfrm>
                    </p:grpSpPr>
                    <p:sp>
                      <p:nvSpPr>
                        <p:cNvPr id="279" name="AutoShape 11"/>
                        <p:cNvSpPr/>
                        <p:nvPr/>
                      </p:nvSpPr>
                      <p:spPr>
                        <a:xfrm>
                          <a:off x="304920" y="4070520"/>
                          <a:ext cx="4030560" cy="523800"/>
                        </a:xfrm>
                        <a:prstGeom prst="roundRect">
                          <a:avLst>
                            <a:gd name="adj" fmla="val 120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grpSp>
                      <p:nvGrpSpPr>
                        <p:cNvPr id="280" name="Group 28"/>
                        <p:cNvGrpSpPr/>
                        <p:nvPr/>
                      </p:nvGrpSpPr>
                      <p:grpSpPr>
                        <a:xfrm>
                          <a:off x="449280" y="4169880"/>
                          <a:ext cx="3741840" cy="293400"/>
                          <a:chOff x="449280" y="4169880"/>
                          <a:chExt cx="3741840" cy="293400"/>
                        </a:xfrm>
                      </p:grpSpPr>
                      <p:sp>
                        <p:nvSpPr>
                          <p:cNvPr id="281" name="AutoShape 12"/>
                          <p:cNvSpPr/>
                          <p:nvPr/>
                        </p:nvSpPr>
                        <p:spPr>
                          <a:xfrm>
                            <a:off x="449280" y="4169880"/>
                            <a:ext cx="1989360" cy="293400"/>
                          </a:xfrm>
                          <a:prstGeom prst="roundRect">
                            <a:avLst>
                              <a:gd name="adj" fmla="val 463"/>
                            </a:avLst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5000" bIns="45000" anchor="ctr" anchorCtr="1">
                            <a:norm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  <a:tab algn="l" pos="9601200"/>
                                <a:tab algn="l" pos="10058400"/>
                                <a:tab algn="l" pos="10515600"/>
                              </a:tabLst>
                            </a:pPr>
                            <a:r>
                              <a:rPr b="1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  <a:ea typeface="Arial"/>
                              </a:rPr>
                              <a:t>Param_Name :</a:t>
                            </a:r>
                            <a:r>
                              <a:rPr b="0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  <a:ea typeface="Arial"/>
                              </a:rPr>
                              <a:t> clk_freq_Hz</a:t>
                            </a:r>
                            <a:endParaRPr b="0" lang="en-US" sz="11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82" name="AutoShape 15"/>
                          <p:cNvSpPr/>
                          <p:nvPr/>
                        </p:nvSpPr>
                        <p:spPr>
                          <a:xfrm>
                            <a:off x="2362320" y="4169880"/>
                            <a:ext cx="1828800" cy="293400"/>
                          </a:xfrm>
                          <a:prstGeom prst="roundRect">
                            <a:avLst>
                              <a:gd name="adj" fmla="val 463"/>
                            </a:avLst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5000" bIns="45000" anchor="ctr" anchorCtr="1">
                            <a:normAutofit fontScale="96000"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  <a:tab algn="l" pos="9601200"/>
                                <a:tab algn="l" pos="10058400"/>
                                <a:tab algn="l" pos="10515600"/>
                              </a:tabLst>
                            </a:pPr>
                            <a:r>
                              <a:rPr b="1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</a:rPr>
                              <a:t>Default Value :</a:t>
                            </a:r>
                            <a:r>
                              <a:rPr b="0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</a:rPr>
                              <a:t> 1000 (Hz)</a:t>
                            </a:r>
                            <a:endParaRPr b="0" lang="en-US" sz="11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283" name="AutoShape 6"/>
                      <p:cNvSpPr/>
                      <p:nvPr/>
                    </p:nvSpPr>
                    <p:spPr>
                      <a:xfrm>
                        <a:off x="1220760" y="4669200"/>
                        <a:ext cx="1827000" cy="364680"/>
                      </a:xfrm>
                      <a:prstGeom prst="roundRect">
                        <a:avLst>
                          <a:gd name="adj" fmla="val 426"/>
                        </a:avLst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5000" bIns="45000" anchor="ctr" anchorCtr="1">
                        <a:normAutofit fontScale="64000"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  <a:tab algn="l" pos="9601200"/>
                            <a:tab algn="l" pos="10058400"/>
                            <a:tab algn="l" pos="10515600"/>
                          </a:tabLst>
                        </a:pP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Bitstream Charter"/>
                          </a:rPr>
                          <a:t>Instance#1</a:t>
                        </a:r>
                        <a:br>
                          <a:rPr sz="1400"/>
                        </a:b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Bitstream Charter"/>
                          </a:rPr>
                          <a:t>Parameter_Owner</a:t>
                        </a:r>
                        <a:endPara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</p:grpSp>
                <p:grpSp>
                  <p:nvGrpSpPr>
                    <p:cNvPr id="284" name="Group 2"/>
                    <p:cNvGrpSpPr/>
                    <p:nvPr/>
                  </p:nvGrpSpPr>
                  <p:grpSpPr>
                    <a:xfrm>
                      <a:off x="4419720" y="4070520"/>
                      <a:ext cx="4411440" cy="963360"/>
                      <a:chOff x="4419720" y="4070520"/>
                      <a:chExt cx="4411440" cy="963360"/>
                    </a:xfrm>
                  </p:grpSpPr>
                  <p:grpSp>
                    <p:nvGrpSpPr>
                      <p:cNvPr id="285" name="Group 31"/>
                      <p:cNvGrpSpPr/>
                      <p:nvPr/>
                    </p:nvGrpSpPr>
                    <p:grpSpPr>
                      <a:xfrm>
                        <a:off x="4419720" y="4070520"/>
                        <a:ext cx="4411440" cy="523800"/>
                        <a:chOff x="4419720" y="4070520"/>
                        <a:chExt cx="4411440" cy="523800"/>
                      </a:xfrm>
                    </p:grpSpPr>
                    <p:sp>
                      <p:nvSpPr>
                        <p:cNvPr id="286" name="AutoShape 11"/>
                        <p:cNvSpPr/>
                        <p:nvPr/>
                      </p:nvSpPr>
                      <p:spPr>
                        <a:xfrm>
                          <a:off x="4419720" y="4070520"/>
                          <a:ext cx="4411440" cy="523800"/>
                        </a:xfrm>
                        <a:prstGeom prst="roundRect">
                          <a:avLst>
                            <a:gd name="adj" fmla="val 120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grpSp>
                      <p:nvGrpSpPr>
                        <p:cNvPr id="287" name="Group 30"/>
                        <p:cNvGrpSpPr/>
                        <p:nvPr/>
                      </p:nvGrpSpPr>
                      <p:grpSpPr>
                        <a:xfrm>
                          <a:off x="4556160" y="4145040"/>
                          <a:ext cx="4275000" cy="335160"/>
                          <a:chOff x="4556160" y="4145040"/>
                          <a:chExt cx="4275000" cy="335160"/>
                        </a:xfrm>
                      </p:grpSpPr>
                      <p:sp>
                        <p:nvSpPr>
                          <p:cNvPr id="288" name="AutoShape 12"/>
                          <p:cNvSpPr/>
                          <p:nvPr/>
                        </p:nvSpPr>
                        <p:spPr>
                          <a:xfrm>
                            <a:off x="4556160" y="4145040"/>
                            <a:ext cx="2378160" cy="335160"/>
                          </a:xfrm>
                          <a:prstGeom prst="roundRect">
                            <a:avLst>
                              <a:gd name="adj" fmla="val 463"/>
                            </a:avLst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5000" bIns="45000" anchor="ctr" anchorCtr="1">
                            <a:norm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  <a:tab algn="l" pos="9601200"/>
                                <a:tab algn="l" pos="10058400"/>
                                <a:tab algn="l" pos="10515600"/>
                              </a:tabLst>
                            </a:pPr>
                            <a:r>
                              <a:rPr b="1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  <a:ea typeface="Arial"/>
                              </a:rPr>
                              <a:t>Param_Name :</a:t>
                            </a:r>
                            <a:r>
                              <a:rPr b="0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  <a:ea typeface="Arial"/>
                              </a:rPr>
                              <a:t> clock_speed_Hz</a:t>
                            </a:r>
                            <a:endParaRPr b="0" lang="en-US" sz="11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89" name="AutoShape 15"/>
                          <p:cNvSpPr/>
                          <p:nvPr/>
                        </p:nvSpPr>
                        <p:spPr>
                          <a:xfrm>
                            <a:off x="6850080" y="4145040"/>
                            <a:ext cx="1981080" cy="335160"/>
                          </a:xfrm>
                          <a:prstGeom prst="roundRect">
                            <a:avLst>
                              <a:gd name="adj" fmla="val 463"/>
                            </a:avLst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5000" bIns="45000" anchor="ctr" anchorCtr="1">
                            <a:norm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  <a:tab algn="l" pos="9601200"/>
                                <a:tab algn="l" pos="10058400"/>
                                <a:tab algn="l" pos="10515600"/>
                              </a:tabLst>
                            </a:pPr>
                            <a:r>
                              <a:rPr b="1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</a:rPr>
                              <a:t>Default Value :</a:t>
                            </a:r>
                            <a:r>
                              <a:rPr b="0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</a:rPr>
                              <a:t> 2 (KHz)</a:t>
                            </a:r>
                            <a:endParaRPr b="0" lang="en-US" sz="11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290" name="AutoShape 6"/>
                      <p:cNvSpPr/>
                      <p:nvPr/>
                    </p:nvSpPr>
                    <p:spPr>
                      <a:xfrm>
                        <a:off x="5716440" y="4669200"/>
                        <a:ext cx="1827000" cy="364680"/>
                      </a:xfrm>
                      <a:prstGeom prst="roundRect">
                        <a:avLst>
                          <a:gd name="adj" fmla="val 426"/>
                        </a:avLst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5000" bIns="45000" anchor="ctr" anchorCtr="1">
                        <a:normAutofit fontScale="64000"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  <a:tab algn="l" pos="9601200"/>
                            <a:tab algn="l" pos="10058400"/>
                            <a:tab algn="l" pos="10515600"/>
                          </a:tabLst>
                        </a:pP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Bitstream Charter"/>
                          </a:rPr>
                          <a:t>Instance#2</a:t>
                        </a:r>
                        <a:br>
                          <a:rPr sz="1400"/>
                        </a:b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Bitstream Charter"/>
                          </a:rPr>
                          <a:t>Parameter_Owner</a:t>
                        </a:r>
                        <a:endPara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</p:grpSp>
              </p:grpSp>
              <p:sp>
                <p:nvSpPr>
                  <p:cNvPr id="291" name="Oval 26"/>
                  <p:cNvSpPr/>
                  <p:nvPr/>
                </p:nvSpPr>
                <p:spPr>
                  <a:xfrm>
                    <a:off x="4495680" y="4130640"/>
                    <a:ext cx="2354400" cy="365040"/>
                  </a:xfrm>
                  <a:prstGeom prst="ellipse">
                    <a:avLst/>
                  </a:prstGeom>
                  <a:noFill/>
                  <a:ln w="255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292" name="AutoShape 15"/>
                <p:cNvSpPr/>
                <p:nvPr/>
              </p:nvSpPr>
              <p:spPr>
                <a:xfrm>
                  <a:off x="7010280" y="4191120"/>
                  <a:ext cx="1676520" cy="30312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Old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93" name="Oval 25"/>
              <p:cNvSpPr/>
              <p:nvPr/>
            </p:nvSpPr>
            <p:spPr>
              <a:xfrm>
                <a:off x="380880" y="4100400"/>
                <a:ext cx="2057400" cy="441360"/>
              </a:xfrm>
              <a:prstGeom prst="ellipse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94" name="Group 25"/>
            <p:cNvGrpSpPr/>
            <p:nvPr/>
          </p:nvGrpSpPr>
          <p:grpSpPr>
            <a:xfrm>
              <a:off x="1409400" y="3429000"/>
              <a:ext cx="4264200" cy="704880"/>
              <a:chOff x="1409400" y="3429000"/>
              <a:chExt cx="4264200" cy="704880"/>
            </a:xfrm>
          </p:grpSpPr>
          <p:cxnSp>
            <p:nvCxnSpPr>
              <p:cNvPr id="295" name="Curved Connector 10"/>
              <p:cNvCxnSpPr>
                <a:stCxn id="293" idx="0"/>
                <a:endCxn id="296" idx="1"/>
              </p:cNvCxnSpPr>
              <p:nvPr/>
            </p:nvCxnSpPr>
            <p:spPr>
              <a:xfrm flipH="1" flipV="1" rot="5400000">
                <a:off x="1937160" y="3052800"/>
                <a:ext cx="506880" cy="1562760"/>
              </a:xfrm>
              <a:prstGeom prst="curvedConnector2">
                <a:avLst/>
              </a:prstGeom>
              <a:ln w="19080">
                <a:solidFill>
                  <a:srgbClr val="00b050"/>
                </a:solidFill>
                <a:prstDash val="sysDash"/>
                <a:miter/>
                <a:headEnd len="lg" type="triangle" w="lg"/>
                <a:tailEnd len="lg" type="triangle" w="lg"/>
              </a:ln>
            </p:spPr>
          </p:cxnSp>
          <p:sp>
            <p:nvSpPr>
              <p:cNvPr id="296" name="AutoShape 15"/>
              <p:cNvSpPr/>
              <p:nvPr/>
            </p:nvSpPr>
            <p:spPr>
              <a:xfrm>
                <a:off x="2971800" y="3429000"/>
                <a:ext cx="1828800" cy="303120"/>
              </a:xfrm>
              <a:prstGeom prst="roundRect">
                <a:avLst>
                  <a:gd name="adj" fmla="val 463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Bitstream Charter"/>
                  </a:rPr>
                  <a:t>param_value_sync</a:t>
                </a:r>
                <a:endParaRPr b="0" lang="en-US" sz="11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cxnSp>
            <p:nvCxnSpPr>
              <p:cNvPr id="297" name="Curved Connector 10"/>
              <p:cNvCxnSpPr>
                <a:stCxn id="296" idx="3"/>
                <a:endCxn id="291" idx="0"/>
              </p:cNvCxnSpPr>
              <p:nvPr/>
            </p:nvCxnSpPr>
            <p:spPr>
              <a:xfrm>
                <a:off x="4800240" y="3580920"/>
                <a:ext cx="873720" cy="553320"/>
              </a:xfrm>
              <a:prstGeom prst="curvedConnector2">
                <a:avLst/>
              </a:prstGeom>
              <a:ln w="19080">
                <a:solidFill>
                  <a:srgbClr val="00b050"/>
                </a:solidFill>
                <a:prstDash val="sysDash"/>
                <a:miter/>
                <a:headEnd len="lg" type="triangle" w="lg"/>
                <a:tailEnd len="lg" type="triangle" w="lg"/>
              </a:ln>
            </p:spPr>
          </p:cxnSp>
        </p:grpSp>
      </p:grpSp>
      <p:grpSp>
        <p:nvGrpSpPr>
          <p:cNvPr id="298" name="Group 3"/>
          <p:cNvGrpSpPr/>
          <p:nvPr/>
        </p:nvGrpSpPr>
        <p:grpSpPr>
          <a:xfrm>
            <a:off x="1143000" y="1219320"/>
            <a:ext cx="7010280" cy="860400"/>
            <a:chOff x="1143000" y="1219320"/>
            <a:chExt cx="7010280" cy="860400"/>
          </a:xfrm>
        </p:grpSpPr>
        <p:sp>
          <p:nvSpPr>
            <p:cNvPr id="299" name="AutoShape 5"/>
            <p:cNvSpPr/>
            <p:nvPr/>
          </p:nvSpPr>
          <p:spPr>
            <a:xfrm>
              <a:off x="3581280" y="1702440"/>
              <a:ext cx="236196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0" name="AutoShape 23"/>
            <p:cNvSpPr/>
            <p:nvPr/>
          </p:nvSpPr>
          <p:spPr>
            <a:xfrm>
              <a:off x="1143000" y="1219320"/>
              <a:ext cx="7010280" cy="45756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cc00cc"/>
                  </a:solidFill>
                  <a:latin typeface="Bitstream Charter"/>
                </a:rPr>
                <a:t>Within BEOE phase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, chang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alue of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clk_freq_Hz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ia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5000 (Hz)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cxnSp>
        <p:nvCxnSpPr>
          <p:cNvPr id="301" name="Curved Connector 9"/>
          <p:cNvCxnSpPr>
            <a:stCxn id="300" idx="1"/>
            <a:endCxn id="293" idx="0"/>
          </p:cNvCxnSpPr>
          <p:nvPr/>
        </p:nvCxnSpPr>
        <p:spPr>
          <a:xfrm flipH="1" flipV="1" rot="10800000">
            <a:off x="1141560" y="1446840"/>
            <a:ext cx="267120" cy="2640600"/>
          </a:xfrm>
          <a:prstGeom prst="curvedConnector5">
            <a:avLst>
              <a:gd name="adj1" fmla="val -85695"/>
              <a:gd name="adj2" fmla="val 27297"/>
              <a:gd name="adj3" fmla="val -85695"/>
            </a:avLst>
          </a:prstGeom>
          <a:ln w="19080">
            <a:solidFill>
              <a:srgbClr val="7030a0"/>
            </a:solidFill>
            <a:miter/>
            <a:tailEnd len="med" type="arrow" w="med"/>
          </a:ln>
        </p:spPr>
      </p:cxnSp>
      <p:grpSp>
        <p:nvGrpSpPr>
          <p:cNvPr id="302" name="Group 15"/>
          <p:cNvGrpSpPr/>
          <p:nvPr/>
        </p:nvGrpSpPr>
        <p:grpSpPr>
          <a:xfrm>
            <a:off x="2514600" y="4114800"/>
            <a:ext cx="1828800" cy="457200"/>
            <a:chOff x="2514600" y="4114800"/>
            <a:chExt cx="1828800" cy="457200"/>
          </a:xfrm>
        </p:grpSpPr>
        <p:sp>
          <p:nvSpPr>
            <p:cNvPr id="303" name="AutoShape 15"/>
            <p:cNvSpPr/>
            <p:nvPr/>
          </p:nvSpPr>
          <p:spPr>
            <a:xfrm>
              <a:off x="2514600" y="419076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4" name="Oval 39"/>
            <p:cNvSpPr/>
            <p:nvPr/>
          </p:nvSpPr>
          <p:spPr>
            <a:xfrm>
              <a:off x="2514600" y="4114800"/>
              <a:ext cx="1752840" cy="457200"/>
            </a:xfrm>
            <a:prstGeom prst="ellipse">
              <a:avLst/>
            </a:prstGeom>
            <a:noFill/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05" name="AutoShape 5"/>
          <p:cNvSpPr/>
          <p:nvPr/>
        </p:nvSpPr>
        <p:spPr>
          <a:xfrm>
            <a:off x="1752480" y="2441520"/>
            <a:ext cx="6323040" cy="4539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ed Callback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or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parameter is called and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Hz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value is synchronized with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06" name="AutoShape 42"/>
          <p:cNvCxnSpPr>
            <a:stCxn id="296" idx="0"/>
            <a:endCxn id="305" idx="2"/>
          </p:cNvCxnSpPr>
          <p:nvPr/>
        </p:nvCxnSpPr>
        <p:spPr>
          <a:xfrm flipV="1">
            <a:off x="3886200" y="2895120"/>
            <a:ext cx="102960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07" name="Group 15"/>
          <p:cNvGrpSpPr/>
          <p:nvPr/>
        </p:nvGrpSpPr>
        <p:grpSpPr>
          <a:xfrm>
            <a:off x="6934320" y="4114800"/>
            <a:ext cx="1828800" cy="457200"/>
            <a:chOff x="6934320" y="4114800"/>
            <a:chExt cx="1828800" cy="457200"/>
          </a:xfrm>
        </p:grpSpPr>
        <p:sp>
          <p:nvSpPr>
            <p:cNvPr id="308" name="AutoShape 15"/>
            <p:cNvSpPr/>
            <p:nvPr/>
          </p:nvSpPr>
          <p:spPr>
            <a:xfrm>
              <a:off x="6934320" y="419076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9" name="Oval 39"/>
            <p:cNvSpPr/>
            <p:nvPr/>
          </p:nvSpPr>
          <p:spPr>
            <a:xfrm>
              <a:off x="6934320" y="4114800"/>
              <a:ext cx="1752840" cy="457200"/>
            </a:xfrm>
            <a:prstGeom prst="ellipse">
              <a:avLst/>
            </a:prstGeom>
            <a:noFill/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10" name="Rectangle 5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123"/>
          <p:cNvGrpSpPr/>
          <p:nvPr/>
        </p:nvGrpSpPr>
        <p:grpSpPr>
          <a:xfrm>
            <a:off x="76320" y="3581280"/>
            <a:ext cx="8961480" cy="2574720"/>
            <a:chOff x="76320" y="3581280"/>
            <a:chExt cx="8961480" cy="2574720"/>
          </a:xfrm>
        </p:grpSpPr>
        <p:grpSp>
          <p:nvGrpSpPr>
            <p:cNvPr id="313" name="Group 92"/>
            <p:cNvGrpSpPr/>
            <p:nvPr/>
          </p:nvGrpSpPr>
          <p:grpSpPr>
            <a:xfrm>
              <a:off x="76320" y="3581280"/>
              <a:ext cx="8961480" cy="2574720"/>
              <a:chOff x="76320" y="3581280"/>
              <a:chExt cx="8961480" cy="2574720"/>
            </a:xfrm>
          </p:grpSpPr>
          <p:grpSp>
            <p:nvGrpSpPr>
              <p:cNvPr id="314" name="Group 93"/>
              <p:cNvGrpSpPr/>
              <p:nvPr/>
            </p:nvGrpSpPr>
            <p:grpSpPr>
              <a:xfrm>
                <a:off x="76320" y="3581280"/>
                <a:ext cx="8961480" cy="2574720"/>
                <a:chOff x="76320" y="3581280"/>
                <a:chExt cx="8961480" cy="2574720"/>
              </a:xfrm>
            </p:grpSpPr>
            <p:grpSp>
              <p:nvGrpSpPr>
                <p:cNvPr id="315" name="Group 94"/>
                <p:cNvGrpSpPr/>
                <p:nvPr/>
              </p:nvGrpSpPr>
              <p:grpSpPr>
                <a:xfrm>
                  <a:off x="76320" y="3581280"/>
                  <a:ext cx="8961480" cy="2574720"/>
                  <a:chOff x="76320" y="3581280"/>
                  <a:chExt cx="8961480" cy="2574720"/>
                </a:xfrm>
              </p:grpSpPr>
              <p:grpSp>
                <p:nvGrpSpPr>
                  <p:cNvPr id="316" name="Group 95"/>
                  <p:cNvGrpSpPr/>
                  <p:nvPr/>
                </p:nvGrpSpPr>
                <p:grpSpPr>
                  <a:xfrm>
                    <a:off x="76320" y="3581280"/>
                    <a:ext cx="8961480" cy="2574720"/>
                    <a:chOff x="76320" y="3581280"/>
                    <a:chExt cx="8961480" cy="2574720"/>
                  </a:xfrm>
                </p:grpSpPr>
                <p:grpSp>
                  <p:nvGrpSpPr>
                    <p:cNvPr id="317" name="Group 96"/>
                    <p:cNvGrpSpPr/>
                    <p:nvPr/>
                  </p:nvGrpSpPr>
                  <p:grpSpPr>
                    <a:xfrm>
                      <a:off x="76320" y="3581280"/>
                      <a:ext cx="8961480" cy="2574720"/>
                      <a:chOff x="76320" y="3581280"/>
                      <a:chExt cx="8961480" cy="2574720"/>
                    </a:xfrm>
                  </p:grpSpPr>
                  <p:grpSp>
                    <p:nvGrpSpPr>
                      <p:cNvPr id="318" name="Group 1"/>
                      <p:cNvGrpSpPr/>
                      <p:nvPr/>
                    </p:nvGrpSpPr>
                    <p:grpSpPr>
                      <a:xfrm>
                        <a:off x="76320" y="3581280"/>
                        <a:ext cx="8961480" cy="2574720"/>
                        <a:chOff x="76320" y="3581280"/>
                        <a:chExt cx="8961480" cy="2574720"/>
                      </a:xfrm>
                    </p:grpSpPr>
                    <p:sp>
                      <p:nvSpPr>
                        <p:cNvPr id="319" name="AutoShape 3"/>
                        <p:cNvSpPr/>
                        <p:nvPr/>
                      </p:nvSpPr>
                      <p:spPr>
                        <a:xfrm>
                          <a:off x="76320" y="3581280"/>
                          <a:ext cx="8961480" cy="2041560"/>
                        </a:xfrm>
                        <a:prstGeom prst="roundRect">
                          <a:avLst>
                            <a:gd name="adj" fmla="val 134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320" name="AutoShape 8"/>
                        <p:cNvSpPr/>
                        <p:nvPr/>
                      </p:nvSpPr>
                      <p:spPr>
                        <a:xfrm>
                          <a:off x="3961080" y="5645880"/>
                          <a:ext cx="1601640" cy="510120"/>
                        </a:xfrm>
                        <a:prstGeom prst="roundRect">
                          <a:avLst>
                            <a:gd name="adj" fmla="val 426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4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Top_Module</a:t>
                          </a:r>
                          <a:endParaRPr b="0" lang="en-US" sz="14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  <p:grpSp>
                    <p:nvGrpSpPr>
                      <p:cNvPr id="321" name="Group 32"/>
                      <p:cNvGrpSpPr/>
                      <p:nvPr/>
                    </p:nvGrpSpPr>
                    <p:grpSpPr>
                      <a:xfrm>
                        <a:off x="304920" y="4375080"/>
                        <a:ext cx="4030560" cy="963360"/>
                        <a:chOff x="304920" y="4375080"/>
                        <a:chExt cx="4030560" cy="963360"/>
                      </a:xfrm>
                    </p:grpSpPr>
                    <p:grpSp>
                      <p:nvGrpSpPr>
                        <p:cNvPr id="322" name="Group 29"/>
                        <p:cNvGrpSpPr/>
                        <p:nvPr/>
                      </p:nvGrpSpPr>
                      <p:grpSpPr>
                        <a:xfrm>
                          <a:off x="304920" y="4375080"/>
                          <a:ext cx="4030560" cy="523800"/>
                          <a:chOff x="304920" y="4375080"/>
                          <a:chExt cx="4030560" cy="523800"/>
                        </a:xfrm>
                      </p:grpSpPr>
                      <p:sp>
                        <p:nvSpPr>
                          <p:cNvPr id="323" name="AutoShape 11"/>
                          <p:cNvSpPr/>
                          <p:nvPr/>
                        </p:nvSpPr>
                        <p:spPr>
                          <a:xfrm>
                            <a:off x="304920" y="4375080"/>
                            <a:ext cx="4030560" cy="523800"/>
                          </a:xfrm>
                          <a:prstGeom prst="roundRect">
                            <a:avLst>
                              <a:gd name="adj" fmla="val 120"/>
                            </a:avLst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  <p:grpSp>
                        <p:nvGrpSpPr>
                          <p:cNvPr id="324" name="Group 28"/>
                          <p:cNvGrpSpPr/>
                          <p:nvPr/>
                        </p:nvGrpSpPr>
                        <p:grpSpPr>
                          <a:xfrm>
                            <a:off x="449280" y="4474440"/>
                            <a:ext cx="3741840" cy="293400"/>
                            <a:chOff x="449280" y="4474440"/>
                            <a:chExt cx="3741840" cy="293400"/>
                          </a:xfrm>
                        </p:grpSpPr>
                        <p:sp>
                          <p:nvSpPr>
                            <p:cNvPr id="325" name="AutoShape 12"/>
                            <p:cNvSpPr/>
                            <p:nvPr/>
                          </p:nvSpPr>
                          <p:spPr>
                            <a:xfrm>
                              <a:off x="449280" y="4474440"/>
                              <a:ext cx="1989360" cy="29340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ctr" anchorCtr="1">
                              <a:norm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457200"/>
                                  <a:tab algn="l" pos="914400"/>
                                  <a:tab algn="l" pos="1371600"/>
                                  <a:tab algn="l" pos="1828800"/>
                                  <a:tab algn="l" pos="2286000"/>
                                  <a:tab algn="l" pos="2743200"/>
                                  <a:tab algn="l" pos="3200400"/>
                                  <a:tab algn="l" pos="3657600"/>
                                  <a:tab algn="l" pos="4114800"/>
                                  <a:tab algn="l" pos="4572000"/>
                                  <a:tab algn="l" pos="5029200"/>
                                  <a:tab algn="l" pos="5486400"/>
                                  <a:tab algn="l" pos="5943600"/>
                                  <a:tab algn="l" pos="6400800"/>
                                  <a:tab algn="l" pos="6858000"/>
                                  <a:tab algn="l" pos="7315200"/>
                                  <a:tab algn="l" pos="7772400"/>
                                  <a:tab algn="l" pos="8229600"/>
                                  <a:tab algn="l" pos="8686800"/>
                                  <a:tab algn="l" pos="9144000"/>
                                  <a:tab algn="l" pos="9601200"/>
                                  <a:tab algn="l" pos="10058400"/>
                                  <a:tab algn="l" pos="10515600"/>
                                </a:tabLst>
                              </a:pPr>
                              <a:r>
                                <a:rPr b="1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  <a:ea typeface="Arial"/>
                                </a:rPr>
                                <a:t>Param_Name :</a:t>
                              </a:r>
                              <a:r>
                                <a:rPr b="0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  <a:ea typeface="Arial"/>
                                </a:rPr>
                                <a:t> clk_freq_Hz</a:t>
                              </a:r>
                              <a:endParaRPr b="0" lang="en-US" sz="1100" spc="-1" strike="noStrike">
                                <a:solidFill>
                                  <a:srgbClr val="ffffff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  <p:sp>
                          <p:nvSpPr>
                            <p:cNvPr id="326" name="AutoShape 15"/>
                            <p:cNvSpPr/>
                            <p:nvPr/>
                          </p:nvSpPr>
                          <p:spPr>
                            <a:xfrm>
                              <a:off x="2362320" y="4474440"/>
                              <a:ext cx="1828800" cy="29340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ctr" anchorCtr="1">
                              <a:normAutofit fontScale="96000"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457200"/>
                                  <a:tab algn="l" pos="914400"/>
                                  <a:tab algn="l" pos="1371600"/>
                                  <a:tab algn="l" pos="1828800"/>
                                  <a:tab algn="l" pos="2286000"/>
                                  <a:tab algn="l" pos="2743200"/>
                                  <a:tab algn="l" pos="3200400"/>
                                  <a:tab algn="l" pos="3657600"/>
                                  <a:tab algn="l" pos="4114800"/>
                                  <a:tab algn="l" pos="4572000"/>
                                  <a:tab algn="l" pos="5029200"/>
                                  <a:tab algn="l" pos="5486400"/>
                                  <a:tab algn="l" pos="5943600"/>
                                  <a:tab algn="l" pos="6400800"/>
                                  <a:tab algn="l" pos="6858000"/>
                                  <a:tab algn="l" pos="7315200"/>
                                  <a:tab algn="l" pos="7772400"/>
                                  <a:tab algn="l" pos="8229600"/>
                                  <a:tab algn="l" pos="8686800"/>
                                  <a:tab algn="l" pos="9144000"/>
                                  <a:tab algn="l" pos="9601200"/>
                                  <a:tab algn="l" pos="10058400"/>
                                  <a:tab algn="l" pos="10515600"/>
                                </a:tabLst>
                              </a:pPr>
                              <a:r>
                                <a:rPr b="1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</a:rPr>
                                <a:t>Default Value :</a:t>
                              </a:r>
                              <a:r>
                                <a:rPr b="0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</a:rPr>
                                <a:t> 1000 (Hz)</a:t>
                              </a:r>
                              <a:endParaRPr b="0" lang="en-US" sz="1100" spc="-1" strike="noStrike">
                                <a:solidFill>
                                  <a:srgbClr val="ffffff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</p:grpSp>
                    </p:grpSp>
                    <p:sp>
                      <p:nvSpPr>
                        <p:cNvPr id="327" name="AutoShape 6"/>
                        <p:cNvSpPr/>
                        <p:nvPr/>
                      </p:nvSpPr>
                      <p:spPr>
                        <a:xfrm>
                          <a:off x="1220760" y="4973760"/>
                          <a:ext cx="1827000" cy="364680"/>
                        </a:xfrm>
                        <a:prstGeom prst="roundRect">
                          <a:avLst>
                            <a:gd name="adj" fmla="val 426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 fontScale="64000"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4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Instance#1</a:t>
                          </a:r>
                          <a:br>
                            <a:rPr sz="1400"/>
                          </a:br>
                          <a:r>
                            <a:rPr b="1" lang="en-US" sz="14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Parameter_Owner</a:t>
                          </a:r>
                          <a:endParaRPr b="0" lang="en-US" sz="14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  <p:grpSp>
                    <p:nvGrpSpPr>
                      <p:cNvPr id="328" name="Group 2"/>
                      <p:cNvGrpSpPr/>
                      <p:nvPr/>
                    </p:nvGrpSpPr>
                    <p:grpSpPr>
                      <a:xfrm>
                        <a:off x="4419720" y="4375080"/>
                        <a:ext cx="4411440" cy="963360"/>
                        <a:chOff x="4419720" y="4375080"/>
                        <a:chExt cx="4411440" cy="963360"/>
                      </a:xfrm>
                    </p:grpSpPr>
                    <p:grpSp>
                      <p:nvGrpSpPr>
                        <p:cNvPr id="329" name="Group 31"/>
                        <p:cNvGrpSpPr/>
                        <p:nvPr/>
                      </p:nvGrpSpPr>
                      <p:grpSpPr>
                        <a:xfrm>
                          <a:off x="4419720" y="4375080"/>
                          <a:ext cx="4411440" cy="523800"/>
                          <a:chOff x="4419720" y="4375080"/>
                          <a:chExt cx="4411440" cy="523800"/>
                        </a:xfrm>
                      </p:grpSpPr>
                      <p:sp>
                        <p:nvSpPr>
                          <p:cNvPr id="330" name="AutoShape 11"/>
                          <p:cNvSpPr/>
                          <p:nvPr/>
                        </p:nvSpPr>
                        <p:spPr>
                          <a:xfrm>
                            <a:off x="4419720" y="4375080"/>
                            <a:ext cx="4411440" cy="523800"/>
                          </a:xfrm>
                          <a:prstGeom prst="roundRect">
                            <a:avLst>
                              <a:gd name="adj" fmla="val 120"/>
                            </a:avLst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  <p:grpSp>
                        <p:nvGrpSpPr>
                          <p:cNvPr id="331" name="Group 30"/>
                          <p:cNvGrpSpPr/>
                          <p:nvPr/>
                        </p:nvGrpSpPr>
                        <p:grpSpPr>
                          <a:xfrm>
                            <a:off x="4556160" y="4449600"/>
                            <a:ext cx="4275000" cy="335160"/>
                            <a:chOff x="4556160" y="4449600"/>
                            <a:chExt cx="4275000" cy="335160"/>
                          </a:xfrm>
                        </p:grpSpPr>
                        <p:sp>
                          <p:nvSpPr>
                            <p:cNvPr id="332" name="AutoShape 12"/>
                            <p:cNvSpPr/>
                            <p:nvPr/>
                          </p:nvSpPr>
                          <p:spPr>
                            <a:xfrm>
                              <a:off x="4556160" y="4449600"/>
                              <a:ext cx="2378160" cy="33516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ctr" anchorCtr="1">
                              <a:norm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457200"/>
                                  <a:tab algn="l" pos="914400"/>
                                  <a:tab algn="l" pos="1371600"/>
                                  <a:tab algn="l" pos="1828800"/>
                                  <a:tab algn="l" pos="2286000"/>
                                  <a:tab algn="l" pos="2743200"/>
                                  <a:tab algn="l" pos="3200400"/>
                                  <a:tab algn="l" pos="3657600"/>
                                  <a:tab algn="l" pos="4114800"/>
                                  <a:tab algn="l" pos="4572000"/>
                                  <a:tab algn="l" pos="5029200"/>
                                  <a:tab algn="l" pos="5486400"/>
                                  <a:tab algn="l" pos="5943600"/>
                                  <a:tab algn="l" pos="6400800"/>
                                  <a:tab algn="l" pos="6858000"/>
                                  <a:tab algn="l" pos="7315200"/>
                                  <a:tab algn="l" pos="7772400"/>
                                  <a:tab algn="l" pos="8229600"/>
                                  <a:tab algn="l" pos="8686800"/>
                                  <a:tab algn="l" pos="9144000"/>
                                  <a:tab algn="l" pos="9601200"/>
                                  <a:tab algn="l" pos="10058400"/>
                                  <a:tab algn="l" pos="10515600"/>
                                </a:tabLst>
                              </a:pPr>
                              <a:r>
                                <a:rPr b="1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  <a:ea typeface="Arial"/>
                                </a:rPr>
                                <a:t>Param_Name :</a:t>
                              </a:r>
                              <a:r>
                                <a:rPr b="0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  <a:ea typeface="Arial"/>
                                </a:rPr>
                                <a:t> clock_speed_Hz</a:t>
                              </a:r>
                              <a:endParaRPr b="0" lang="en-US" sz="1100" spc="-1" strike="noStrike">
                                <a:solidFill>
                                  <a:srgbClr val="ffffff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  <p:sp>
                          <p:nvSpPr>
                            <p:cNvPr id="333" name="AutoShape 15"/>
                            <p:cNvSpPr/>
                            <p:nvPr/>
                          </p:nvSpPr>
                          <p:spPr>
                            <a:xfrm>
                              <a:off x="6850080" y="4449600"/>
                              <a:ext cx="1981080" cy="33516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ctr" anchorCtr="1">
                              <a:norm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457200"/>
                                  <a:tab algn="l" pos="914400"/>
                                  <a:tab algn="l" pos="1371600"/>
                                  <a:tab algn="l" pos="1828800"/>
                                  <a:tab algn="l" pos="2286000"/>
                                  <a:tab algn="l" pos="2743200"/>
                                  <a:tab algn="l" pos="3200400"/>
                                  <a:tab algn="l" pos="3657600"/>
                                  <a:tab algn="l" pos="4114800"/>
                                  <a:tab algn="l" pos="4572000"/>
                                  <a:tab algn="l" pos="5029200"/>
                                  <a:tab algn="l" pos="5486400"/>
                                  <a:tab algn="l" pos="5943600"/>
                                  <a:tab algn="l" pos="6400800"/>
                                  <a:tab algn="l" pos="6858000"/>
                                  <a:tab algn="l" pos="7315200"/>
                                  <a:tab algn="l" pos="7772400"/>
                                  <a:tab algn="l" pos="8229600"/>
                                  <a:tab algn="l" pos="8686800"/>
                                  <a:tab algn="l" pos="9144000"/>
                                  <a:tab algn="l" pos="9601200"/>
                                  <a:tab algn="l" pos="10058400"/>
                                  <a:tab algn="l" pos="10515600"/>
                                </a:tabLst>
                              </a:pPr>
                              <a:r>
                                <a:rPr b="1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</a:rPr>
                                <a:t>Default Value :</a:t>
                              </a:r>
                              <a:r>
                                <a:rPr b="0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</a:rPr>
                                <a:t> 2 (KHz)</a:t>
                              </a:r>
                              <a:endParaRPr b="0" lang="en-US" sz="1100" spc="-1" strike="noStrike">
                                <a:solidFill>
                                  <a:srgbClr val="ffffff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</p:grpSp>
                    </p:grpSp>
                    <p:sp>
                      <p:nvSpPr>
                        <p:cNvPr id="334" name="AutoShape 6"/>
                        <p:cNvSpPr/>
                        <p:nvPr/>
                      </p:nvSpPr>
                      <p:spPr>
                        <a:xfrm>
                          <a:off x="5716440" y="4973760"/>
                          <a:ext cx="1827000" cy="364680"/>
                        </a:xfrm>
                        <a:prstGeom prst="roundRect">
                          <a:avLst>
                            <a:gd name="adj" fmla="val 426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 fontScale="64000"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4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Instance#2</a:t>
                          </a:r>
                          <a:br>
                            <a:rPr sz="1400"/>
                          </a:br>
                          <a:r>
                            <a:rPr b="1" lang="en-US" sz="14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Parameter_Owner</a:t>
                          </a:r>
                          <a:endParaRPr b="0" lang="en-US" sz="14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35" name="Oval 26"/>
                    <p:cNvSpPr/>
                    <p:nvPr/>
                  </p:nvSpPr>
                  <p:spPr>
                    <a:xfrm>
                      <a:off x="4495680" y="4435200"/>
                      <a:ext cx="2354400" cy="365040"/>
                    </a:xfrm>
                    <a:prstGeom prst="ellipse">
                      <a:avLst/>
                    </a:prstGeom>
                    <a:noFill/>
                    <a:ln w="255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336" name="AutoShape 15"/>
                  <p:cNvSpPr/>
                  <p:nvPr/>
                </p:nvSpPr>
                <p:spPr>
                  <a:xfrm>
                    <a:off x="7010280" y="4495680"/>
                    <a:ext cx="1676520" cy="303120"/>
                  </a:xfrm>
                  <a:prstGeom prst="roundRect">
                    <a:avLst>
                      <a:gd name="adj" fmla="val 463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ctr" anchorCtr="1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US" sz="1100" spc="-1" strike="noStrike">
                        <a:solidFill>
                          <a:srgbClr val="000000"/>
                        </a:solidFill>
                        <a:latin typeface="Bitstream Charter"/>
                      </a:rPr>
                      <a:t>Old Value :</a:t>
                    </a:r>
                    <a:r>
                      <a:rPr b="0" lang="en-US" sz="1100" spc="-1" strike="noStrike">
                        <a:solidFill>
                          <a:srgbClr val="000000"/>
                        </a:solidFill>
                        <a:latin typeface="Bitstream Charter"/>
                      </a:rPr>
                      <a:t> 1000 (Hz)</a:t>
                    </a:r>
                    <a:endParaRPr b="0" lang="en-US" sz="1100" spc="-1" strike="noStrike">
                      <a:solidFill>
                        <a:srgbClr val="ffffff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337" name="Oval 25"/>
                <p:cNvSpPr/>
                <p:nvPr/>
              </p:nvSpPr>
              <p:spPr>
                <a:xfrm>
                  <a:off x="380880" y="4404960"/>
                  <a:ext cx="2057400" cy="441360"/>
                </a:xfrm>
                <a:prstGeom prst="ellips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38" name="Group 117"/>
              <p:cNvGrpSpPr/>
              <p:nvPr/>
            </p:nvGrpSpPr>
            <p:grpSpPr>
              <a:xfrm>
                <a:off x="1409400" y="3733560"/>
                <a:ext cx="4264200" cy="704880"/>
                <a:chOff x="1409400" y="3733560"/>
                <a:chExt cx="4264200" cy="704880"/>
              </a:xfrm>
            </p:grpSpPr>
            <p:cxnSp>
              <p:nvCxnSpPr>
                <p:cNvPr id="339" name="Curved Connector 10"/>
                <p:cNvCxnSpPr>
                  <a:stCxn id="337" idx="0"/>
                  <a:endCxn id="340" idx="1"/>
                </p:cNvCxnSpPr>
                <p:nvPr/>
              </p:nvCxnSpPr>
              <p:spPr>
                <a:xfrm flipH="1" flipV="1" rot="5400000">
                  <a:off x="1937160" y="3357360"/>
                  <a:ext cx="506880" cy="156276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  <p:sp>
              <p:nvSpPr>
                <p:cNvPr id="340" name="AutoShape 15"/>
                <p:cNvSpPr/>
                <p:nvPr/>
              </p:nvSpPr>
              <p:spPr>
                <a:xfrm>
                  <a:off x="2971800" y="3733560"/>
                  <a:ext cx="1828800" cy="30312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param_value_sync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cxnSp>
              <p:nvCxnSpPr>
                <p:cNvPr id="341" name="Curved Connector 10"/>
                <p:cNvCxnSpPr>
                  <a:stCxn id="340" idx="3"/>
                  <a:endCxn id="335" idx="0"/>
                </p:cNvCxnSpPr>
                <p:nvPr/>
              </p:nvCxnSpPr>
              <p:spPr>
                <a:xfrm>
                  <a:off x="4800240" y="3885480"/>
                  <a:ext cx="873720" cy="55332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</p:grpSp>
        </p:grpSp>
        <p:sp>
          <p:nvSpPr>
            <p:cNvPr id="342" name="AutoShape 23"/>
            <p:cNvSpPr/>
            <p:nvPr/>
          </p:nvSpPr>
          <p:spPr>
            <a:xfrm>
              <a:off x="6934320" y="4572000"/>
              <a:ext cx="1676160" cy="15228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Old Value :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5000 (Hz)</a:t>
              </a:r>
              <a:endParaRPr b="0" lang="en-US" sz="1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3" name="AutoShape 23"/>
            <p:cNvSpPr/>
            <p:nvPr/>
          </p:nvSpPr>
          <p:spPr>
            <a:xfrm>
              <a:off x="2514600" y="4495680"/>
              <a:ext cx="1676520" cy="2286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Old Value :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5000 (Hz)</a:t>
              </a:r>
              <a:endParaRPr b="0" lang="en-US" sz="12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44" name="Group 3"/>
          <p:cNvGrpSpPr/>
          <p:nvPr/>
        </p:nvGrpSpPr>
        <p:grpSpPr>
          <a:xfrm>
            <a:off x="1600200" y="1730520"/>
            <a:ext cx="6705720" cy="860400"/>
            <a:chOff x="1600200" y="1730520"/>
            <a:chExt cx="6705720" cy="860400"/>
          </a:xfrm>
        </p:grpSpPr>
        <p:sp>
          <p:nvSpPr>
            <p:cNvPr id="345" name="AutoShape 5"/>
            <p:cNvSpPr/>
            <p:nvPr/>
          </p:nvSpPr>
          <p:spPr>
            <a:xfrm>
              <a:off x="3562920" y="2213640"/>
              <a:ext cx="253512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6" name="AutoShape 23"/>
            <p:cNvSpPr/>
            <p:nvPr/>
          </p:nvSpPr>
          <p:spPr>
            <a:xfrm>
              <a:off x="1600200" y="1730520"/>
              <a:ext cx="6705720" cy="47916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At 0ns, chang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alue of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clck_speed_Hz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ia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12000 (Hz)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47" name="AutoShape 23"/>
          <p:cNvSpPr/>
          <p:nvPr/>
        </p:nvSpPr>
        <p:spPr>
          <a:xfrm>
            <a:off x="2971800" y="1066680"/>
            <a:ext cx="3581280" cy="4572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Simulation start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AutoShape 5"/>
          <p:cNvSpPr/>
          <p:nvPr/>
        </p:nvSpPr>
        <p:spPr>
          <a:xfrm>
            <a:off x="1600200" y="2822400"/>
            <a:ext cx="6323040" cy="45432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ed Callback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or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parameter is called and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value is synchronized with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49" name="Curved Connector 9"/>
          <p:cNvCxnSpPr>
            <a:stCxn id="346" idx="3"/>
            <a:endCxn id="335" idx="0"/>
          </p:cNvCxnSpPr>
          <p:nvPr/>
        </p:nvCxnSpPr>
        <p:spPr>
          <a:xfrm flipH="1">
            <a:off x="5673240" y="1969560"/>
            <a:ext cx="2633040" cy="2453400"/>
          </a:xfrm>
          <a:prstGeom prst="curvedConnector5">
            <a:avLst>
              <a:gd name="adj1" fmla="val -8683"/>
              <a:gd name="adj2" fmla="val 27560"/>
              <a:gd name="adj3" fmla="val -8683"/>
            </a:avLst>
          </a:prstGeom>
          <a:ln w="19080">
            <a:solidFill>
              <a:srgbClr val="92823e"/>
            </a:solidFill>
            <a:miter/>
            <a:tailEnd len="med" type="arrow" w="med"/>
          </a:ln>
        </p:spPr>
      </p:cxnSp>
      <p:grpSp>
        <p:nvGrpSpPr>
          <p:cNvPr id="350" name="Group 46"/>
          <p:cNvGrpSpPr/>
          <p:nvPr/>
        </p:nvGrpSpPr>
        <p:grpSpPr>
          <a:xfrm>
            <a:off x="6934320" y="4419720"/>
            <a:ext cx="1828800" cy="457200"/>
            <a:chOff x="6934320" y="4419720"/>
            <a:chExt cx="1828800" cy="457200"/>
          </a:xfrm>
        </p:grpSpPr>
        <p:sp>
          <p:nvSpPr>
            <p:cNvPr id="351" name="AutoShape 15"/>
            <p:cNvSpPr/>
            <p:nvPr/>
          </p:nvSpPr>
          <p:spPr>
            <a:xfrm>
              <a:off x="6934320" y="449568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12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52" name="Oval 48"/>
            <p:cNvSpPr/>
            <p:nvPr/>
          </p:nvSpPr>
          <p:spPr>
            <a:xfrm>
              <a:off x="6934320" y="4419720"/>
              <a:ext cx="1752840" cy="457200"/>
            </a:xfrm>
            <a:prstGeom prst="ellipse">
              <a:avLst/>
            </a:prstGeom>
            <a:noFill/>
            <a:ln w="25560">
              <a:solidFill>
                <a:srgbClr val="9282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53" name="Group 46"/>
          <p:cNvGrpSpPr/>
          <p:nvPr/>
        </p:nvGrpSpPr>
        <p:grpSpPr>
          <a:xfrm>
            <a:off x="2514600" y="4419720"/>
            <a:ext cx="1828800" cy="457200"/>
            <a:chOff x="2514600" y="4419720"/>
            <a:chExt cx="1828800" cy="457200"/>
          </a:xfrm>
        </p:grpSpPr>
        <p:sp>
          <p:nvSpPr>
            <p:cNvPr id="354" name="AutoShape 15"/>
            <p:cNvSpPr/>
            <p:nvPr/>
          </p:nvSpPr>
          <p:spPr>
            <a:xfrm>
              <a:off x="2514600" y="449568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12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55" name="Oval 48"/>
            <p:cNvSpPr/>
            <p:nvPr/>
          </p:nvSpPr>
          <p:spPr>
            <a:xfrm>
              <a:off x="2514600" y="4419720"/>
              <a:ext cx="1752840" cy="457200"/>
            </a:xfrm>
            <a:prstGeom prst="ellipse">
              <a:avLst/>
            </a:prstGeom>
            <a:noFill/>
            <a:ln w="25560">
              <a:solidFill>
                <a:srgbClr val="9282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cxnSp>
        <p:nvCxnSpPr>
          <p:cNvPr id="356" name="AutoShape 130"/>
          <p:cNvCxnSpPr>
            <a:stCxn id="340" idx="0"/>
          </p:cNvCxnSpPr>
          <p:nvPr/>
        </p:nvCxnSpPr>
        <p:spPr>
          <a:xfrm flipV="1">
            <a:off x="3886200" y="3276360"/>
            <a:ext cx="838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7" name="Rectangle 13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11_Searching_and_Directly_Associateing_Parameters.log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80880" y="12193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owner1: @0 s, [OWNER C_TOR] : Parameter Name   : top_mod.param_owner1.clk_freq_Hz   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owner2: @0 s, [OWNER C_TOR] : Parameter Name   : top_mod.param_owner2.clock_speed_Hz    Parameter Value :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: @0 s, [TOP_MODULE C_TOR] : Parameter Name : top_mod.param_owner1.clk_freq_Hz 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: @0 s, [TOP_MODULE C_TOR] : Parameter Name : top_mod.param_owner2.clock_speed_Hz  Parameter Value :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Parameter Name : top_mod.param_owner1.clk_freq_Hz    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Parameter Name : top_mod.param_owner2.clock_speed_Hz 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Within the BEOE ph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Changing the 'clk_freq_Hz' of OWNER (1) to 5000 (Hz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: @0 s, [PARAM_VALUE_SYNC - post_write callback] : Parameter Name : top_mod.param_owner1.clk_freq_Hz  Value : 5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: @0 s, [PARAM_VALUE_SYNC - post_write callback] : Parameter Name : top_mod.param_owner2.clock_speed_Hz   Value : 5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Parameter Name : top_mod.param_owner1.clk_freq_Hz  Parameter Value : 5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Parameter Name : top_mod.param_owner2.clock_speed_Hz   Parameter Value : 5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Changing the 'clock_speed_Hz' of OWNER (2) to 12000 (Hz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: @0 s, [PARAM_VALUE_SYNC - post_write callback] : Parameter Name : top_mod.param_owner2.clock_speed_Hz   Value : 1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: @0 s, [PARAM_VALUE_SYNC - post_write callback] : Parameter Name : top_mod.param_owner1.clk_freq_Hz  Value : 1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Parameter Name : top_mod.param_owner1.clk_freq_Hz  Parameter Value : 1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Parameter Name : top_mod.param_owner2.clock_speed_Hz   Parameter Value : 1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17-02-05T20:28:14Z</cp:lastPrinted>
  <dcterms:modified xsi:type="dcterms:W3CDTF">2017-12-16T22:24:22Z</dcterms:modified>
  <cp:revision>25</cp:revision>
  <dc:subject/>
  <dc:title>ex11_Searching_and_Directly_Associating_Paramete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6 22:24:21Z</vt:lpwstr>
  </property>
  <property fmtid="{D5CDD505-2E9C-101B-9397-08002B2CF9AE}" pid="5" name="TitusGUID">
    <vt:lpwstr>3cb855b7-0950-486a-ab41-5d5a221903ba</vt:lpwstr>
  </property>
</Properties>
</file>